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DE85-07D4-4611-8A0D-E16E1EAE8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352C-994A-4E08-A470-03109A0BB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8DB4-F821-4C73-A031-ED3138D91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4CD3-6767-402F-BFFD-5AD96772B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569A4-657B-4998-9083-AFAAFFA9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A179-BD9A-4393-8193-6ABBFF2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82BC9-1A70-4AEB-BC75-6611039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23C27-7448-449C-9C1B-E641609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0646B-5A88-4EC0-8B17-1BA96E9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FB74D-17CE-4924-B91A-E89CFFA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18FAD-0938-4D04-827E-5EDCC848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C65-118D-47AB-BB77-ECFA5E178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512F2-9865-4573-9EEF-7D6D643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F187-1C8F-4A1D-9684-7666D97D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D39FA-DD7D-451D-AD7A-278D74C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B65CF-886B-47E3-8170-BB111935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473EB-FAE3-4CB3-AA1A-BCDC30B8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03AD-474B-4CF3-BA41-C8DF4370D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F050-C0AE-4FA3-A427-62C43534F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6358-3BD6-46E6-B5F4-65836C501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CD34-EA93-4E9D-90F8-B0537F846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4B65-2E36-454E-84CC-8947102C3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E95E-B389-4D22-BF7B-8F95D98E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1BDE-82B0-4D5E-A389-3F2999AD4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B5E9-99DE-43C7-8FDC-0E7D5DBC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347640" y="177300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2843280" y="6237360"/>
            <a:ext cx="18460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4859280" y="6237360"/>
            <a:ext cx="2246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7236000" y="6237000"/>
            <a:ext cx="16905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28E-78A4-47CB-84AB-8554A813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47640" y="1773000"/>
            <a:ext cx="511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24000" y="3789360"/>
            <a:ext cx="3848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31C4-0AD9-4B32-AB63-AF53D3F4CC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8697-F35F-4FC7-A79E-66696C477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AC08-85B5-43FA-B60A-6EAD53CE4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0033"/>
                </a:solidFill>
                <a:latin typeface="Cordia New"/>
              </a:rPr>
              <a:t>Chulalongkorn University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</a:rPr>
              <a:t>Chulalongkorn University is Thailand’s first institution of higher education founded nearly  a century ag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</a:rPr>
              <a:t>As a national intellectual center, the university produces the finest quality graduates with      a high level of knowledge and skills in the arts and sciences that they can use to contribute to socie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988B-AF48-47EC-8439-B926869FB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0033"/>
                </a:solidFill>
                <a:latin typeface="Cordia New"/>
              </a:rPr>
              <a:t>Chulalongkorn University is 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Thailand’s oldest and one of the country’s most prestigious universitie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Officially established on March 26, 1917        by King Vajiravudh (Rama VI) and named after his father King Chulalongkorn (Rama V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C316-B4B9-45ED-94A0-66E1941531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0033"/>
                </a:solidFill>
                <a:latin typeface="Cordia New"/>
              </a:rPr>
              <a:t>International Outlook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Cordia New"/>
              </a:rPr>
              <a:t>Chulalongkorn University is Thailand’s top ranked university and 166 in the THE-QS World University Ranking 2008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Cordia New"/>
              </a:rPr>
              <a:t>Chulalongkorn University is cooperating with a large number of universities worldwid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Cordia New"/>
              </a:rPr>
              <a:t>Activities under the agreements cover research collaboration, information sharing, and faculty and student exchang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FE49-9A65-4603-AD8C-788D60B3E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33"/>
                </a:solidFill>
                <a:latin typeface="Cordia New"/>
              </a:rPr>
              <a:t>CU Facts &amp; Figures</a:t>
            </a:r>
            <a:br>
              <a:rPr sz="4000"/>
            </a:br>
            <a:r>
              <a:rPr b="1" i="1" lang="en-US" sz="4000" spc="-1" strike="noStrike">
                <a:solidFill>
                  <a:srgbClr val="660033"/>
                </a:solidFill>
                <a:latin typeface="Cordia New"/>
              </a:rPr>
              <a:t>Data in 2008</a:t>
            </a:r>
            <a:endParaRPr b="0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hualongkorn Unviersity consists of 18 faculties, three schools, three colleges and six institu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The university has a total of 32,511 students.       The undergraduate student body numbers 20,41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urrently, there are 9,740 students studying for    their Master degree and 1,737 studying for their Doctor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Faculty and staff, including government officials and university personnel is numbering at 7,85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CE6C-AF86-4070-B04B-24D0AF1B0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0033"/>
                </a:solidFill>
                <a:latin typeface="Cordia New"/>
              </a:rPr>
              <a:t>Location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hulalongkorn University’s campus is located in the heart of downtown Bangkok, the capital city of Thailan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In the vicinity, one is provided with complete conveniences---housing, transportation and shopping facili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60C0-D8BA-49C6-B5C2-D28FFC2B38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660033"/>
                </a:solidFill>
                <a:latin typeface="Cordia New"/>
              </a:rPr>
              <a:t>Contact Us</a:t>
            </a:r>
            <a:endParaRPr b="0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254 Phayathai Road, Pathumwan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Bangkok Thailand. 1033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3333cc"/>
                </a:solidFill>
                <a:uFillTx/>
                <a:latin typeface="Cordia New"/>
                <a:hlinkClick r:id="rId2"/>
              </a:rPr>
              <a:t>www.chula.ac.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A8C-BB6E-43CB-A6F7-F8C94E1C0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26:45Z</dcterms:created>
  <dc:creator>COMPAQ</dc:creator>
  <dc:description/>
  <dc:language>en-US</dc:language>
  <cp:lastModifiedBy>CasperX</cp:lastModifiedBy>
  <dcterms:modified xsi:type="dcterms:W3CDTF">2009-03-23T10:08:59Z</dcterms:modified>
  <cp:revision>7</cp:revision>
  <dc:subject/>
  <dc:title>ภาพนิ่ง 1</dc:title>
</cp:coreProperties>
</file>