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D13-F83F-4FF0-8B77-F42E1FD7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3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F4D-C9BA-44A1-9904-98EECE10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3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0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F6C-9FE3-4E0A-8EEF-A9DAF761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5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3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5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1C8-0671-4299-B364-55754DA1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3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708-D4B0-49F4-B98B-1E998B32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A5D-0C8F-4DD5-A766-D782D00D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0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C12-1FA7-4C76-8D1A-6AB05E8D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C12-59E2-47E1-BEA1-CBB6F69E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2840" y="1125360"/>
            <a:ext cx="820908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338-B426-4535-9BC2-4E7B1FFC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0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3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20E-1291-403A-984D-91B948E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0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0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7C2-36A8-4F67-ADA2-24529169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0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3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9AC-91B9-450B-9EEA-A933213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2929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3200" y="2133720"/>
            <a:ext cx="8229600" cy="399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1" marL="713160" indent="-274320">
              <a:spcBef>
                <a:spcPts val="799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2" marL="1097280" indent="-219240"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3" marL="1536120" indent="-219240">
              <a:spcBef>
                <a:spcPts val="799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4" marL="1974960" indent="-219240">
              <a:spcBef>
                <a:spcPts val="799"/>
              </a:spcBef>
              <a:buClr>
                <a:srgbClr val="6600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D661-3293-44E4-B9EF-C0283575E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ula.ac.th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35730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444-CDAC-4C3F-8400-9844519DA6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8229600" cy="399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B4D-45D8-42EF-A590-E516EE61FB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8229600" cy="399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4A6-2DF0-46AA-AECC-36495D5D51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292929"/>
                </a:solidFill>
                <a:latin typeface="Cordia New"/>
              </a:rPr>
              <a:t>Chulalongkorn University</a:t>
            </a: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8229600" cy="399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901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Chulalongkorn University is Thailand’s first institution of higher education founded nearly a century ago.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1" marL="616680" indent="-237240">
              <a:lnSpc>
                <a:spcPct val="100000"/>
              </a:lnSpc>
              <a:spcBef>
                <a:spcPts val="901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As a national intellectual center, the university produces the finest quality graduates with a high level of knowledge and skills in the arts and sciences that they can use to contribute to society.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B3D-920B-4441-9EB8-87D39A174F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292929"/>
                </a:solidFill>
                <a:latin typeface="Cordia New"/>
              </a:rPr>
              <a:t>Chulalongkorn University is </a:t>
            </a: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8229600" cy="399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ctr">
              <a:lnSpc>
                <a:spcPct val="100000"/>
              </a:lnSpc>
              <a:spcBef>
                <a:spcPts val="901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Thailand’s oldest and one of the country’s most prestigious universities. 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1" marL="720720" indent="-277200" algn="ctr">
              <a:lnSpc>
                <a:spcPct val="100000"/>
              </a:lnSpc>
              <a:spcBef>
                <a:spcPts val="901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Officially established on March 26, 1917 by King Vajiravudh (Rama VI) and named after his father King Chulalongkorn (Rama V).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FFC-DB8E-4AEC-A2FB-16F1A4B840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292929"/>
                </a:solidFill>
                <a:latin typeface="Cordia New"/>
              </a:rPr>
              <a:t>International Outlook</a:t>
            </a: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8229600" cy="399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>
              <a:lnSpc>
                <a:spcPct val="100000"/>
              </a:lnSpc>
              <a:spcBef>
                <a:spcPts val="649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660033"/>
                </a:solidFill>
                <a:latin typeface="Cordia New"/>
              </a:rPr>
              <a:t>Chulalongkorn University is Thailand’s top ranked university and 166 in the THE-QS World University Ranking 2008.</a:t>
            </a:r>
            <a:endParaRPr b="1" lang="en-US" sz="2600" spc="-1" strike="noStrike">
              <a:solidFill>
                <a:srgbClr val="660033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649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660033"/>
                </a:solidFill>
                <a:latin typeface="Cordia New"/>
              </a:rPr>
              <a:t>Chulalongkorn University is cooperating with a large number of universities worldwide.</a:t>
            </a:r>
            <a:endParaRPr b="1" lang="en-US" sz="2600" spc="-1" strike="noStrike">
              <a:solidFill>
                <a:srgbClr val="660033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649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660033"/>
                </a:solidFill>
                <a:latin typeface="Cordia New"/>
              </a:rPr>
              <a:t>Activities under the agreements cover research collaboration, information sharing, and faculty and student exchange. </a:t>
            </a:r>
            <a:endParaRPr b="1" lang="en-US" sz="2600" spc="-1" strike="noStrike">
              <a:solidFill>
                <a:srgbClr val="660033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649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660033"/>
                </a:solidFill>
                <a:latin typeface="Cordia New"/>
              </a:rPr>
              <a:t>The university is a member of higher educational institutions networks such as the International Association of Universities (IAU), the Association of Pacific Rim Universities (APRU), and ASEAN University Network (AUN).</a:t>
            </a:r>
            <a:endParaRPr b="1" lang="en-US" sz="2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561-E064-4FF6-9A68-6506DDCAF1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292929"/>
                </a:solidFill>
                <a:latin typeface="Cordia New"/>
              </a:rPr>
              <a:t>CU Facts &amp; Figures </a:t>
            </a:r>
            <a:r>
              <a:rPr b="1" lang="en-US" sz="4400" spc="-1" strike="noStrike">
                <a:solidFill>
                  <a:srgbClr val="292929"/>
                </a:solidFill>
                <a:latin typeface="Cordia New"/>
              </a:rPr>
              <a:t>: </a:t>
            </a:r>
            <a:r>
              <a:rPr b="1" i="1" lang="en-US" sz="4400" spc="-1" strike="noStrike">
                <a:solidFill>
                  <a:srgbClr val="292929"/>
                </a:solidFill>
                <a:latin typeface="Cordia New"/>
              </a:rPr>
              <a:t>Data in 2008</a:t>
            </a: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8229600" cy="399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0033"/>
                </a:solidFill>
                <a:latin typeface="Cordia New"/>
              </a:rPr>
              <a:t>Chualongkorn Unviersity consists of 18 faculties, three schools, three colleges and six institutes.</a:t>
            </a:r>
            <a:endParaRPr b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0033"/>
                </a:solidFill>
                <a:latin typeface="Cordia New"/>
              </a:rPr>
              <a:t>The university has a total of 32,511 students. The undergraduate student body numbers 20,419.</a:t>
            </a:r>
            <a:endParaRPr b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0033"/>
                </a:solidFill>
                <a:latin typeface="Cordia New"/>
              </a:rPr>
              <a:t>Currently, there are 9,740 students studying for their Master degree and 1,737 studying for their Doctorate.</a:t>
            </a:r>
            <a:endParaRPr b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660033"/>
                </a:solidFill>
                <a:latin typeface="Cordia New"/>
              </a:rPr>
              <a:t>Faculty and staff, including government officials and university personnel is numbering at 7,851.</a:t>
            </a:r>
            <a:endParaRPr b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440-58D0-4D3A-ACC7-CFBC7F77E2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292929"/>
                </a:solidFill>
                <a:latin typeface="Cordia New"/>
              </a:rPr>
              <a:t>Location</a:t>
            </a: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8229600" cy="399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lvl="1" marL="549720" indent="-211320">
              <a:lnSpc>
                <a:spcPct val="100000"/>
              </a:lnSpc>
              <a:spcBef>
                <a:spcPts val="751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0033"/>
                </a:solidFill>
                <a:latin typeface="Cordia New"/>
              </a:rPr>
              <a:t>Chulalongkorn University’s campus is located in the heart of downtown Bangkok, the capital city of Thailand. </a:t>
            </a:r>
            <a:endParaRPr b="1" lang="en-US" sz="3000" spc="-1" strike="noStrike">
              <a:solidFill>
                <a:srgbClr val="660033"/>
              </a:solidFill>
              <a:latin typeface="Comic Sans MS"/>
            </a:endParaRPr>
          </a:p>
          <a:p>
            <a:pPr lvl="1" marL="549720" indent="-211320">
              <a:lnSpc>
                <a:spcPct val="100000"/>
              </a:lnSpc>
              <a:spcBef>
                <a:spcPts val="751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0033"/>
                </a:solidFill>
                <a:latin typeface="Cordia New"/>
              </a:rPr>
              <a:t>On the campus, one can find himself surrounded by very green and beautiful landscape and serene academic environment as well as high-quality facilities to enhance the ability for learning in the age of globalization. </a:t>
            </a:r>
            <a:endParaRPr b="1" lang="en-US" sz="3000" spc="-1" strike="noStrike">
              <a:solidFill>
                <a:srgbClr val="660033"/>
              </a:solidFill>
              <a:latin typeface="Comic Sans MS"/>
            </a:endParaRPr>
          </a:p>
          <a:p>
            <a:pPr lvl="1" marL="549720" indent="-211320">
              <a:lnSpc>
                <a:spcPct val="100000"/>
              </a:lnSpc>
              <a:spcBef>
                <a:spcPts val="751"/>
              </a:spcBef>
              <a:buClr>
                <a:srgbClr val="660033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0033"/>
                </a:solidFill>
                <a:latin typeface="Cordia New"/>
              </a:rPr>
              <a:t>In the vicinity, one is provided with complete conveniences---housing, transportation and shopping facilities.</a:t>
            </a:r>
            <a:endParaRPr b="1" lang="en-US" sz="3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03F-D798-424D-B31E-CE3B0197E8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2840" y="1125360"/>
            <a:ext cx="8209080" cy="935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292929"/>
                </a:solidFill>
                <a:latin typeface="Cordia New"/>
              </a:rPr>
              <a:t>Contact Us</a:t>
            </a:r>
            <a:endParaRPr b="1" lang="en-US" sz="4400" spc="-1" strike="noStrike">
              <a:solidFill>
                <a:srgbClr val="29292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3200" y="2133720"/>
            <a:ext cx="8229600" cy="399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254 Phayathai Road, Pathumwan, 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Bangkok Thailand. 10330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 u="sng">
                <a:solidFill>
                  <a:srgbClr val="009999"/>
                </a:solidFill>
                <a:uFillTx/>
                <a:latin typeface="Cordia New"/>
                <a:hlinkClick r:id="rId2"/>
              </a:rPr>
              <a:t>www.chula.ac.th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004-7434-4B4C-B158-93C49186B5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1:00:27Z</dcterms:created>
  <dc:creator>iLLuSioN</dc:creator>
  <dc:description/>
  <dc:language>en-US</dc:language>
  <cp:lastModifiedBy>CasperX</cp:lastModifiedBy>
  <dcterms:modified xsi:type="dcterms:W3CDTF">2009-03-23T10:14:59Z</dcterms:modified>
  <cp:revision>4</cp:revision>
  <dc:subject/>
  <dc:title>ภาพนิ่ง 1</dc:title>
</cp:coreProperties>
</file>