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79DE-C3CA-4074-AD61-82C77928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6629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057040" y="4087440"/>
            <a:ext cx="6629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708-05D9-4624-8F58-EF827C1E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057040" y="408744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454000" y="408744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8531-B8F8-4071-B7F3-CE97B7A0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98760" y="182880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40120" y="182880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2057040" y="408744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4298760" y="408744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540120" y="408744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2C3C-20E4-4928-B306-AAE0FD1E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0F26-1495-4CC0-AE8E-64CF02D6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A52B-C620-4E01-B444-6DF36AC3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6415-BA2A-41C1-BACA-03463E96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80E5-9157-4490-858A-C7612904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FA34-8F76-41BA-BAA0-9CDF842F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057040" y="685440"/>
            <a:ext cx="6629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D8C6-AF68-44CA-80CD-A74F1E77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057040" y="408744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EEF5-147A-46A4-8A91-836AEB35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D55-D57D-446E-A2AB-469E7A62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454000" y="408744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3FBD-AF15-4AC4-BF50-D91E6D1B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057040" y="4087440"/>
            <a:ext cx="6629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1C7B-3816-4027-8CA4-854AFB04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6629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057040" y="4087440"/>
            <a:ext cx="6629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5AE1-E84D-4B94-A741-B5EBE314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57040" y="408744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454000" y="408744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05F5-90FC-4CED-9D38-AA7FB32A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98760" y="182880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540120" y="182880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057040" y="408744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298760" y="408744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540120" y="408744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6D93-1C33-494C-A84A-7FD9AB55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21D74-0529-425C-B99D-B32BE6D7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7C2F0-39FA-4F8B-A8DA-B6C9DE45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5ED68-81F8-4EE3-BC03-1225A42C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852EF-B26F-4928-A1E4-517AE607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8E854-86F2-4DF0-B62D-069E5B9F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8E9-F95A-4CDB-900D-0B882C64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057040" y="685440"/>
            <a:ext cx="6629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060D8-5AC8-40E1-A0A3-987E8D3D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057040" y="408744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0E178-3842-42F3-BC93-35E28A8C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54000" y="408744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145C-2987-4655-8FE8-8D39ED24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057040" y="4087440"/>
            <a:ext cx="6629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DAAE3-67A8-40C3-ADDF-C186FA17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6629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057040" y="4087440"/>
            <a:ext cx="6629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86C8A-8901-4D4A-998B-217C6FD5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057040" y="408744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54000" y="408744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7827E-1A0C-4B87-94FE-1C2F3C1B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98760" y="182880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40120" y="182880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057040" y="408744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298760" y="408744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40120" y="408744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5C8D6-17C8-47B2-889B-2586577A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B5609F-109A-4AA1-B0C1-60EFC07E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749FB0-8A90-4668-B7F9-758B5A77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CF2045-74DE-40D9-89B9-9F16C6CE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EC7-D1F3-4F86-BF4B-49337D7E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4FD90E-C73F-4C61-BA0B-6BD7278E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9AABE-2932-405C-8314-CC6B1FCC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057040" y="685440"/>
            <a:ext cx="6629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A724C4-4348-4504-B182-6C763E2B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057040" y="408744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25A4A7-11E3-43D4-91F8-E223A5C3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454000" y="408744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641B96-7270-4C2D-A500-85E5C380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057040" y="4087440"/>
            <a:ext cx="6629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DCBF1D-A3A1-468F-9EAD-1184F4BE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6629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057040" y="4087440"/>
            <a:ext cx="6629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298C12-0626-4418-A2D6-A13AEBA8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057040" y="408744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454000" y="408744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88B77F-82B2-4E1A-BD14-8C1141C7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298760" y="182880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40120" y="182880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057040" y="408744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298760" y="408744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40120" y="408744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775634-92C6-44BB-A0B6-C57EE856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8EF42-11EB-4DA8-9575-95C26280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F1B-E389-48D2-9923-DBD2C07B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AC601-83AA-42C9-8EC3-15095E06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35009-C81E-41A4-907A-C6B0246F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89A53-90EE-4395-A40E-565ECB11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0FF04-AA59-48FC-BB80-401A48BE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2057040" y="685440"/>
            <a:ext cx="6629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2D6D1-CD22-4D97-976E-A2BD5625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057040" y="408744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54EC6-4479-4684-986D-719C50AF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454000" y="408744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F7322-4980-4289-8288-A6A623D8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2057040" y="4087440"/>
            <a:ext cx="6629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99918-3F4B-473A-8E85-8459FD90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6629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057040" y="4087440"/>
            <a:ext cx="6629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B14B6-4AA6-4CAA-85AF-45139191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2057040" y="408744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454000" y="408744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99609-0B1C-4077-B2BF-2AECEAA4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2057040" y="685440"/>
            <a:ext cx="6629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7E8-EBF5-4366-84A6-888396BF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298760" y="182880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540120" y="182880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2057040" y="408744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298760" y="408744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540120" y="4087440"/>
            <a:ext cx="2134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D1481-C790-4982-A4D7-A0461334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57040" y="408744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57A-9CA1-4F17-9799-685FFDF9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454000" y="408744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8B64-4E12-4717-A169-318DEB1E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454000" y="1828800"/>
            <a:ext cx="32349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057040" y="4087440"/>
            <a:ext cx="66294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5AB-C317-4ADA-833F-232BDA17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c007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7695720" y="62485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400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17C1-D2BE-4BEE-A390-567A6D1C7518}" type="datetime">
              <a:rPr b="0" lang="en-US" sz="800" spc="-1" strike="noStrike">
                <a:solidFill>
                  <a:srgbClr val="e40059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10516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400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40059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307E-5676-4AD7-BE31-D8FD37278A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Picture 23" descr="logo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0" y="152280"/>
            <a:ext cx="1612800" cy="381240"/>
          </a:xfrm>
          <a:prstGeom prst="rect">
            <a:avLst/>
          </a:prstGeom>
          <a:ln w="0">
            <a:noFill/>
          </a:ln>
        </p:spPr>
      </p:pic>
      <p:grpSp>
        <p:nvGrpSpPr>
          <p:cNvPr id="19" name="Group 43"/>
          <p:cNvGrpSpPr/>
          <p:nvPr/>
        </p:nvGrpSpPr>
        <p:grpSpPr>
          <a:xfrm>
            <a:off x="0" y="0"/>
            <a:ext cx="1980360" cy="6858000"/>
            <a:chOff x="0" y="0"/>
            <a:chExt cx="1980360" cy="6858000"/>
          </a:xfrm>
        </p:grpSpPr>
        <p:pic>
          <p:nvPicPr>
            <p:cNvPr id="20" name="Picture 19" descr="Chula Presentation.jp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9144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" name="Group 16"/>
            <p:cNvGrpSpPr/>
            <p:nvPr/>
          </p:nvGrpSpPr>
          <p:grpSpPr>
            <a:xfrm>
              <a:off x="5760" y="5254560"/>
              <a:ext cx="1974600" cy="1596960"/>
              <a:chOff x="5760" y="5254560"/>
              <a:chExt cx="1974600" cy="1596960"/>
            </a:xfrm>
          </p:grpSpPr>
          <p:sp>
            <p:nvSpPr>
              <p:cNvPr id="22" name="Rectangle 17"/>
              <p:cNvSpPr/>
              <p:nvPr/>
            </p:nvSpPr>
            <p:spPr>
              <a:xfrm flipH="1" flipV="1" rot="5400000">
                <a:off x="58320" y="6289920"/>
                <a:ext cx="509040" cy="6141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3" name="Rectangle 18"/>
              <p:cNvSpPr/>
              <p:nvPr/>
            </p:nvSpPr>
            <p:spPr>
              <a:xfrm flipH="1" flipV="1" rot="5400000">
                <a:off x="58320" y="5745960"/>
                <a:ext cx="509040" cy="6141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4" name="Rectangle 19"/>
              <p:cNvSpPr/>
              <p:nvPr/>
            </p:nvSpPr>
            <p:spPr>
              <a:xfrm flipH="1" flipV="1" rot="5400000">
                <a:off x="57960" y="5201640"/>
                <a:ext cx="509400" cy="6141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5" name="Rectangle 20"/>
              <p:cNvSpPr/>
              <p:nvPr/>
            </p:nvSpPr>
            <p:spPr>
              <a:xfrm flipH="1" rot="16200000">
                <a:off x="724320" y="6289920"/>
                <a:ext cx="509040" cy="6141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" name="Rectangle 21"/>
              <p:cNvSpPr/>
              <p:nvPr/>
            </p:nvSpPr>
            <p:spPr>
              <a:xfrm flipH="1" flipV="1" rot="5400000">
                <a:off x="1419120" y="6290280"/>
                <a:ext cx="509040" cy="61344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7" name="Rectangle 22"/>
              <p:cNvSpPr/>
              <p:nvPr/>
            </p:nvSpPr>
            <p:spPr>
              <a:xfrm flipH="1" flipV="1" rot="5400000">
                <a:off x="724320" y="5745960"/>
                <a:ext cx="509040" cy="6141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3" descr="Chula Presentation.jp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36705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Rectangle 45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Rectangle 46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e4005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Rectangle 47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e4005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Rectangle 48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e4005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Rounded Rectangle 4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Rounded Rectangle 5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Rectangle 5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Rectangle 5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Rectangle 5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5" name="Picture 13" descr="logo"/>
          <p:cNvPicPr/>
          <p:nvPr/>
        </p:nvPicPr>
        <p:blipFill>
          <a:blip r:embed="rId3"/>
          <a:stretch/>
        </p:blipFill>
        <p:spPr>
          <a:xfrm>
            <a:off x="0" y="304920"/>
            <a:ext cx="3060720" cy="7239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c007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400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DD94-C63D-40F7-8206-37C041CB30BD}" type="datetime">
              <a:rPr b="0" lang="en-US" sz="800" spc="-1" strike="noStrike">
                <a:solidFill>
                  <a:srgbClr val="e40059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400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40059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4D2A-12FC-42EE-897E-D79A34BDDB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0" name="Picture 23" descr="logo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0" y="152280"/>
            <a:ext cx="1612800" cy="38124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43"/>
          <p:cNvGrpSpPr/>
          <p:nvPr/>
        </p:nvGrpSpPr>
        <p:grpSpPr>
          <a:xfrm>
            <a:off x="0" y="0"/>
            <a:ext cx="1980360" cy="6858000"/>
            <a:chOff x="0" y="0"/>
            <a:chExt cx="1980360" cy="6858000"/>
          </a:xfrm>
        </p:grpSpPr>
        <p:pic>
          <p:nvPicPr>
            <p:cNvPr id="132" name="Picture 19" descr="Chula Presentation.jp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9144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Group 16"/>
            <p:cNvGrpSpPr/>
            <p:nvPr/>
          </p:nvGrpSpPr>
          <p:grpSpPr>
            <a:xfrm>
              <a:off x="5760" y="5254560"/>
              <a:ext cx="1974600" cy="1596960"/>
              <a:chOff x="5760" y="5254560"/>
              <a:chExt cx="1974600" cy="1596960"/>
            </a:xfrm>
          </p:grpSpPr>
          <p:sp>
            <p:nvSpPr>
              <p:cNvPr id="134" name="Rectangle 17"/>
              <p:cNvSpPr/>
              <p:nvPr/>
            </p:nvSpPr>
            <p:spPr>
              <a:xfrm flipH="1" flipV="1" rot="5400000">
                <a:off x="58320" y="6289920"/>
                <a:ext cx="509040" cy="6141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5" name="Rectangle 18"/>
              <p:cNvSpPr/>
              <p:nvPr/>
            </p:nvSpPr>
            <p:spPr>
              <a:xfrm flipH="1" flipV="1" rot="5400000">
                <a:off x="58320" y="5745960"/>
                <a:ext cx="509040" cy="6141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6" name="Rectangle 19"/>
              <p:cNvSpPr/>
              <p:nvPr/>
            </p:nvSpPr>
            <p:spPr>
              <a:xfrm flipH="1" flipV="1" rot="5400000">
                <a:off x="57960" y="5201640"/>
                <a:ext cx="509400" cy="6141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7" name="Rectangle 20"/>
              <p:cNvSpPr/>
              <p:nvPr/>
            </p:nvSpPr>
            <p:spPr>
              <a:xfrm flipH="1" rot="16200000">
                <a:off x="724320" y="6289920"/>
                <a:ext cx="509040" cy="6141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8" name="Rectangle 21"/>
              <p:cNvSpPr/>
              <p:nvPr/>
            </p:nvSpPr>
            <p:spPr>
              <a:xfrm flipH="1" flipV="1" rot="5400000">
                <a:off x="1419120" y="6290280"/>
                <a:ext cx="509040" cy="61344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139" name="Rectangle 22"/>
              <p:cNvSpPr/>
              <p:nvPr/>
            </p:nvSpPr>
            <p:spPr>
              <a:xfrm flipH="1" flipV="1" rot="5400000">
                <a:off x="724320" y="5745960"/>
                <a:ext cx="509040" cy="6141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pic>
        <p:nvPicPr>
          <p:cNvPr id="140" name="Picture 13" descr="logo"/>
          <p:cNvPicPr/>
          <p:nvPr/>
        </p:nvPicPr>
        <p:blipFill>
          <a:blip r:embed="rId4"/>
          <a:stretch/>
        </p:blipFill>
        <p:spPr>
          <a:xfrm>
            <a:off x="0" y="228600"/>
            <a:ext cx="1752480" cy="4143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57360" indent="-246240"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22320" indent="-21888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179360" indent="-19980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389240" indent="-182880">
              <a:spcBef>
                <a:spcPts val="300"/>
              </a:spcBef>
              <a:buClr>
                <a:srgbClr val="9c007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7695720" y="62485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400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3016-B71E-4921-99BE-3374303220D7}" type="datetime">
              <a:rPr b="0" lang="en-US" sz="800" spc="-1" strike="noStrike">
                <a:solidFill>
                  <a:srgbClr val="e40059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510516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400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40059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AE25-A1EB-4A7E-B551-2B808B23F7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5" name="Picture 23" descr="logo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0" y="152280"/>
            <a:ext cx="1612800" cy="38124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43"/>
          <p:cNvGrpSpPr/>
          <p:nvPr/>
        </p:nvGrpSpPr>
        <p:grpSpPr>
          <a:xfrm>
            <a:off x="0" y="0"/>
            <a:ext cx="1980360" cy="6858000"/>
            <a:chOff x="0" y="0"/>
            <a:chExt cx="1980360" cy="6858000"/>
          </a:xfrm>
        </p:grpSpPr>
        <p:pic>
          <p:nvPicPr>
            <p:cNvPr id="197" name="Picture 19" descr="Chula Presentation.jp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9144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8" name="Group 16"/>
            <p:cNvGrpSpPr/>
            <p:nvPr/>
          </p:nvGrpSpPr>
          <p:grpSpPr>
            <a:xfrm>
              <a:off x="5760" y="5254560"/>
              <a:ext cx="1974600" cy="1596960"/>
              <a:chOff x="5760" y="5254560"/>
              <a:chExt cx="1974600" cy="1596960"/>
            </a:xfrm>
          </p:grpSpPr>
          <p:sp>
            <p:nvSpPr>
              <p:cNvPr id="199" name="Rectangle 17"/>
              <p:cNvSpPr/>
              <p:nvPr/>
            </p:nvSpPr>
            <p:spPr>
              <a:xfrm flipH="1" flipV="1" rot="5400000">
                <a:off x="58320" y="6289920"/>
                <a:ext cx="509040" cy="6141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00" name="Rectangle 18"/>
              <p:cNvSpPr/>
              <p:nvPr/>
            </p:nvSpPr>
            <p:spPr>
              <a:xfrm flipH="1" flipV="1" rot="5400000">
                <a:off x="58320" y="5745960"/>
                <a:ext cx="509040" cy="6141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01" name="Rectangle 19"/>
              <p:cNvSpPr/>
              <p:nvPr/>
            </p:nvSpPr>
            <p:spPr>
              <a:xfrm flipH="1" flipV="1" rot="5400000">
                <a:off x="57960" y="5201640"/>
                <a:ext cx="509400" cy="6141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02" name="Rectangle 20"/>
              <p:cNvSpPr/>
              <p:nvPr/>
            </p:nvSpPr>
            <p:spPr>
              <a:xfrm flipH="1" rot="16200000">
                <a:off x="724320" y="6289920"/>
                <a:ext cx="509040" cy="6141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03" name="Rectangle 21"/>
              <p:cNvSpPr/>
              <p:nvPr/>
            </p:nvSpPr>
            <p:spPr>
              <a:xfrm flipH="1" flipV="1" rot="5400000">
                <a:off x="1419120" y="6290280"/>
                <a:ext cx="509040" cy="61344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04" name="Rectangle 22"/>
              <p:cNvSpPr/>
              <p:nvPr/>
            </p:nvSpPr>
            <p:spPr>
              <a:xfrm flipH="1" flipV="1" rot="5400000">
                <a:off x="724320" y="5745960"/>
                <a:ext cx="509040" cy="6141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c007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0"/>
          </p:nvPr>
        </p:nvSpPr>
        <p:spPr>
          <a:xfrm>
            <a:off x="7695720" y="62485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400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19B8-6D72-4234-AF41-27ABD8AF3C80}" type="datetime">
              <a:rPr b="0" lang="en-US" sz="800" spc="-1" strike="noStrike">
                <a:solidFill>
                  <a:srgbClr val="e40059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66F3-87FA-4C81-8F0C-9E3D985021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2"/>
          </p:nvPr>
        </p:nvSpPr>
        <p:spPr>
          <a:xfrm>
            <a:off x="510516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400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40059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9" name="Picture 23" descr="logo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0" y="152280"/>
            <a:ext cx="1612800" cy="38124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43"/>
          <p:cNvGrpSpPr/>
          <p:nvPr/>
        </p:nvGrpSpPr>
        <p:grpSpPr>
          <a:xfrm>
            <a:off x="0" y="0"/>
            <a:ext cx="1980360" cy="6858000"/>
            <a:chOff x="0" y="0"/>
            <a:chExt cx="1980360" cy="6858000"/>
          </a:xfrm>
        </p:grpSpPr>
        <p:pic>
          <p:nvPicPr>
            <p:cNvPr id="261" name="Picture 19" descr="Chula Presentation.jp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9144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2" name="Group 16"/>
            <p:cNvGrpSpPr/>
            <p:nvPr/>
          </p:nvGrpSpPr>
          <p:grpSpPr>
            <a:xfrm>
              <a:off x="5760" y="5254560"/>
              <a:ext cx="1974600" cy="1596960"/>
              <a:chOff x="5760" y="5254560"/>
              <a:chExt cx="1974600" cy="1596960"/>
            </a:xfrm>
          </p:grpSpPr>
          <p:sp>
            <p:nvSpPr>
              <p:cNvPr id="263" name="Rectangle 17"/>
              <p:cNvSpPr/>
              <p:nvPr/>
            </p:nvSpPr>
            <p:spPr>
              <a:xfrm flipH="1" flipV="1" rot="5400000">
                <a:off x="58320" y="6289920"/>
                <a:ext cx="509040" cy="6141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4" name="Rectangle 18"/>
              <p:cNvSpPr/>
              <p:nvPr/>
            </p:nvSpPr>
            <p:spPr>
              <a:xfrm flipH="1" flipV="1" rot="5400000">
                <a:off x="58320" y="5745960"/>
                <a:ext cx="509040" cy="6141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5" name="Rectangle 19"/>
              <p:cNvSpPr/>
              <p:nvPr/>
            </p:nvSpPr>
            <p:spPr>
              <a:xfrm flipH="1" flipV="1" rot="5400000">
                <a:off x="57960" y="5201640"/>
                <a:ext cx="509400" cy="6141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6" name="Rectangle 20"/>
              <p:cNvSpPr/>
              <p:nvPr/>
            </p:nvSpPr>
            <p:spPr>
              <a:xfrm flipH="1" rot="16200000">
                <a:off x="724320" y="6289920"/>
                <a:ext cx="509040" cy="6141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7" name="Rectangle 21"/>
              <p:cNvSpPr/>
              <p:nvPr/>
            </p:nvSpPr>
            <p:spPr>
              <a:xfrm flipH="1" flipV="1" rot="5400000">
                <a:off x="1419120" y="6290280"/>
                <a:ext cx="509040" cy="61344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8" name="Rectangle 22"/>
              <p:cNvSpPr/>
              <p:nvPr/>
            </p:nvSpPr>
            <p:spPr>
              <a:xfrm flipH="1" flipV="1" rot="5400000">
                <a:off x="724320" y="5745960"/>
                <a:ext cx="509040" cy="6141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c007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3"/>
          </p:nvPr>
        </p:nvSpPr>
        <p:spPr>
          <a:xfrm>
            <a:off x="8000640" y="62485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400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06D0-9FE6-4C1C-97C7-479B930F410A}" type="datetime">
              <a:rPr b="0" lang="en-US" sz="800" spc="-1" strike="noStrike">
                <a:solidFill>
                  <a:srgbClr val="e40059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4"/>
          </p:nvPr>
        </p:nvSpPr>
        <p:spPr>
          <a:xfrm>
            <a:off x="6675480" y="62485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400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40059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7F56-4725-465C-9FF6-CA7E0CCF70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hula.ac.th/" TargetMode="Externa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24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900D-669F-406B-922F-9E4FD58185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16060-FBD3-4FB3-A60C-FB53409989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E42D7-E3D2-45F6-83E9-2E3AF4D1B6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666666"/>
                </a:solidFill>
                <a:latin typeface="Cordia New"/>
                <a:ea typeface="Cordia New"/>
              </a:rPr>
              <a:t>Chulalongkorn University</a:t>
            </a: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97960" indent="-223920" algn="ctr">
              <a:lnSpc>
                <a:spcPct val="100000"/>
              </a:lnSpc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e40059"/>
                </a:solidFill>
                <a:latin typeface="Cordia New"/>
                <a:ea typeface="Cordia New"/>
              </a:rPr>
              <a:t>Chulalongkorn University is Thailand’s first institution of higher education founded nearly         a century ago.</a:t>
            </a:r>
            <a:endParaRPr b="0" lang="en-US" sz="3000" spc="-1" strike="noStrike">
              <a:solidFill>
                <a:srgbClr val="e40059"/>
              </a:solidFill>
              <a:latin typeface="Arial Rounded MT Bold"/>
            </a:endParaRPr>
          </a:p>
          <a:p>
            <a:pPr lvl="1" marL="597960" indent="-223920" algn="ctr">
              <a:lnSpc>
                <a:spcPct val="100000"/>
              </a:lnSpc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e40059"/>
                </a:solidFill>
                <a:latin typeface="Cordia New"/>
                <a:ea typeface="Cordia New"/>
              </a:rPr>
              <a:t>As a national intellectual center, the university produces the finest quality graduates with a high level of knowledge and skills in the arts and sciences that they can use to contribute to society.</a:t>
            </a:r>
            <a:endParaRPr b="0" lang="en-US" sz="3000" spc="-1" strike="noStrike">
              <a:solidFill>
                <a:srgbClr val="e40059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42E44-5B09-434A-9663-EE27188B61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666666"/>
                </a:solidFill>
                <a:latin typeface="Cordia New"/>
                <a:ea typeface="Cordia New"/>
              </a:rPr>
              <a:t>Chulalongkorn University is </a:t>
            </a: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7360" indent="-246240" algn="ctr">
              <a:lnSpc>
                <a:spcPct val="100000"/>
              </a:lnSpc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e40059"/>
                </a:solidFill>
                <a:latin typeface="Cordia New"/>
                <a:ea typeface="Cordia New"/>
              </a:rPr>
              <a:t>Thailand’s oldest and one of the country’s most prestigious universities. </a:t>
            </a:r>
            <a:endParaRPr b="0" lang="en-US" sz="3400" spc="-1" strike="noStrike">
              <a:solidFill>
                <a:srgbClr val="e40059"/>
              </a:solidFill>
              <a:latin typeface="Arial Rounded MT Bold"/>
            </a:endParaRPr>
          </a:p>
          <a:p>
            <a:pPr lvl="1" marL="657360" indent="-246240" algn="ctr">
              <a:lnSpc>
                <a:spcPct val="100000"/>
              </a:lnSpc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e40059"/>
                </a:solidFill>
                <a:latin typeface="Cordia New"/>
                <a:ea typeface="Cordia New"/>
              </a:rPr>
              <a:t>Officially established on March 26, 1917 by King Vajiravudh (Rama VI) and named after his father King Chulalongkorn (Rama V).</a:t>
            </a:r>
            <a:endParaRPr b="0" lang="en-US" sz="3400" spc="-1" strike="noStrike">
              <a:solidFill>
                <a:srgbClr val="e40059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933E8-D337-4CDD-BE05-9EAF45DF66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666666"/>
                </a:solidFill>
                <a:latin typeface="Cordia New"/>
                <a:ea typeface="Cordia New"/>
              </a:rPr>
              <a:t>International Outlook</a:t>
            </a: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565200" indent="-211680">
              <a:lnSpc>
                <a:spcPct val="100000"/>
              </a:lnSpc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e40059"/>
                </a:solidFill>
                <a:latin typeface="Cordia New"/>
                <a:ea typeface="Cordia New"/>
              </a:rPr>
              <a:t>Chulalongkorn University is Thailand’s top ranked university and 166 in the THE-QS World University Ranking 2008.</a:t>
            </a:r>
            <a:endParaRPr b="0" lang="en-US" sz="2400" spc="-1" strike="noStrike">
              <a:solidFill>
                <a:srgbClr val="e40059"/>
              </a:solidFill>
              <a:latin typeface="Arial Rounded MT Bold"/>
            </a:endParaRPr>
          </a:p>
          <a:p>
            <a:pPr lvl="1" marL="565200" indent="-211680">
              <a:lnSpc>
                <a:spcPct val="100000"/>
              </a:lnSpc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e40059"/>
                </a:solidFill>
                <a:latin typeface="Cordia New"/>
                <a:ea typeface="Cordia New"/>
              </a:rPr>
              <a:t>Chulalongkorn University is cooperating with a large number of universities worldwide.</a:t>
            </a:r>
            <a:endParaRPr b="0" lang="en-US" sz="2400" spc="-1" strike="noStrike">
              <a:solidFill>
                <a:srgbClr val="e40059"/>
              </a:solidFill>
              <a:latin typeface="Arial Rounded MT Bold"/>
            </a:endParaRPr>
          </a:p>
          <a:p>
            <a:pPr lvl="1" marL="565200" indent="-211680">
              <a:lnSpc>
                <a:spcPct val="100000"/>
              </a:lnSpc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e40059"/>
                </a:solidFill>
                <a:latin typeface="Cordia New"/>
                <a:ea typeface="Cordia New"/>
              </a:rPr>
              <a:t>Activities under the agreements cover research collaboration, information sharing, and faculty and student exchange. </a:t>
            </a:r>
            <a:endParaRPr b="0" lang="en-US" sz="2400" spc="-1" strike="noStrike">
              <a:solidFill>
                <a:srgbClr val="e40059"/>
              </a:solidFill>
              <a:latin typeface="Arial Rounded MT Bold"/>
            </a:endParaRPr>
          </a:p>
          <a:p>
            <a:pPr lvl="1" marL="565200" indent="-211680">
              <a:lnSpc>
                <a:spcPct val="100000"/>
              </a:lnSpc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e40059"/>
                </a:solidFill>
                <a:latin typeface="Cordia New"/>
                <a:ea typeface="Cordia New"/>
              </a:rPr>
              <a:t>The university is a member of higher educational institutions networks such as the International Association of Universities (IAU), the Association of Pacific Rim Universities (APRU), and ASEAN University Network (AUN).</a:t>
            </a:r>
            <a:endParaRPr b="0" lang="en-US" sz="2400" spc="-1" strike="noStrike">
              <a:solidFill>
                <a:srgbClr val="e40059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AB914-2641-44A2-BFED-5DD7D4F718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6666"/>
                </a:solidFill>
                <a:latin typeface="Cordia New"/>
                <a:ea typeface="Cordia New"/>
              </a:rPr>
              <a:t>CU Facts &amp; Figures</a:t>
            </a:r>
            <a:br>
              <a:rPr sz="3600"/>
            </a:br>
            <a:r>
              <a:rPr b="1" i="1" lang="en-US" sz="3600" spc="-1" strike="noStrike">
                <a:solidFill>
                  <a:srgbClr val="666666"/>
                </a:solidFill>
                <a:latin typeface="Cordia New"/>
                <a:ea typeface="Cordia New"/>
              </a:rPr>
              <a:t>Data in 2008</a:t>
            </a:r>
            <a:endParaRPr b="0" lang="en-US" sz="36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492840" indent="-184680" algn="ctr">
              <a:lnSpc>
                <a:spcPct val="100000"/>
              </a:lnSpc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e40059"/>
                </a:solidFill>
                <a:latin typeface="Cordia New"/>
                <a:ea typeface="Cordia New"/>
              </a:rPr>
              <a:t>Chualongkorn Unviersity consists of 18 faculties, three schools, three colleges and six institutes.</a:t>
            </a:r>
            <a:endParaRPr b="0" lang="en-US" sz="3000" spc="-1" strike="noStrike">
              <a:solidFill>
                <a:srgbClr val="e40059"/>
              </a:solidFill>
              <a:latin typeface="Arial Rounded MT Bold"/>
            </a:endParaRPr>
          </a:p>
          <a:p>
            <a:pPr lvl="1" marL="492840" indent="-184680" algn="ctr">
              <a:lnSpc>
                <a:spcPct val="100000"/>
              </a:lnSpc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e40059"/>
                </a:solidFill>
                <a:latin typeface="Cordia New"/>
                <a:ea typeface="Cordia New"/>
              </a:rPr>
              <a:t>The university has a total of 32,511 students.    The undergraduate student body numbers 20,419.</a:t>
            </a:r>
            <a:endParaRPr b="0" lang="en-US" sz="3000" spc="-1" strike="noStrike">
              <a:solidFill>
                <a:srgbClr val="e40059"/>
              </a:solidFill>
              <a:latin typeface="Arial Rounded MT Bold"/>
            </a:endParaRPr>
          </a:p>
          <a:p>
            <a:pPr lvl="1" marL="492840" indent="-184680" algn="ctr">
              <a:lnSpc>
                <a:spcPct val="100000"/>
              </a:lnSpc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e40059"/>
                </a:solidFill>
                <a:latin typeface="Cordia New"/>
                <a:ea typeface="Cordia New"/>
              </a:rPr>
              <a:t>Currently, there are 9,740 students studying for their Master degree and 1,737 studying for their Doctorate.</a:t>
            </a:r>
            <a:endParaRPr b="0" lang="en-US" sz="3000" spc="-1" strike="noStrike">
              <a:solidFill>
                <a:srgbClr val="e40059"/>
              </a:solidFill>
              <a:latin typeface="Arial Rounded MT Bold"/>
            </a:endParaRPr>
          </a:p>
          <a:p>
            <a:pPr lvl="1" marL="492840" indent="-184680" algn="ctr">
              <a:lnSpc>
                <a:spcPct val="100000"/>
              </a:lnSpc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e40059"/>
                </a:solidFill>
                <a:latin typeface="Cordia New"/>
                <a:ea typeface="Cordia New"/>
              </a:rPr>
              <a:t>Faculty and staff, including government officials and university personnel is numbering at 7,851.</a:t>
            </a:r>
            <a:endParaRPr b="0" lang="en-US" sz="3000" spc="-1" strike="noStrike">
              <a:solidFill>
                <a:srgbClr val="e40059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7E1A1-434F-45C1-A902-E9AA2A7DC7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666666"/>
                </a:solidFill>
                <a:latin typeface="Cordia New"/>
                <a:ea typeface="Cordia New"/>
              </a:rPr>
              <a:t>Location</a:t>
            </a: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545400" indent="-204120" algn="ctr">
              <a:lnSpc>
                <a:spcPct val="100000"/>
              </a:lnSpc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700" spc="-1" strike="noStrike">
                <a:solidFill>
                  <a:srgbClr val="e40059"/>
                </a:solidFill>
                <a:latin typeface="Cordia New"/>
                <a:ea typeface="Cordia New"/>
              </a:rPr>
              <a:t>Chulalongkorn University’s campus is located in the heart of downtown Bangkok, the capital city of Thailand. </a:t>
            </a:r>
            <a:endParaRPr b="0" lang="en-US" sz="2700" spc="-1" strike="noStrike">
              <a:solidFill>
                <a:srgbClr val="e40059"/>
              </a:solidFill>
              <a:latin typeface="Arial Rounded MT Bold"/>
            </a:endParaRPr>
          </a:p>
          <a:p>
            <a:pPr lvl="1" marL="545400" indent="-204120" algn="ctr">
              <a:lnSpc>
                <a:spcPct val="100000"/>
              </a:lnSpc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700" spc="-1" strike="noStrike">
                <a:solidFill>
                  <a:srgbClr val="e40059"/>
                </a:solidFill>
                <a:latin typeface="Cordia New"/>
                <a:ea typeface="Cordia New"/>
              </a:rPr>
              <a:t>On the campus, one can find himself surrounded by very green and beautiful landscape and serene academic environment as well as high-quality facilities to enhance the ability for learning in the age of globalization. </a:t>
            </a:r>
            <a:endParaRPr b="0" lang="en-US" sz="2700" spc="-1" strike="noStrike">
              <a:solidFill>
                <a:srgbClr val="e40059"/>
              </a:solidFill>
              <a:latin typeface="Arial Rounded MT Bold"/>
            </a:endParaRPr>
          </a:p>
          <a:p>
            <a:pPr lvl="1" marL="545400" indent="-204120" algn="ctr">
              <a:lnSpc>
                <a:spcPct val="100000"/>
              </a:lnSpc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700" spc="-1" strike="noStrike">
                <a:solidFill>
                  <a:srgbClr val="e40059"/>
                </a:solidFill>
                <a:latin typeface="Cordia New"/>
                <a:ea typeface="Cordia New"/>
              </a:rPr>
              <a:t>In the vicinity, one is provided with complete conveniences---housing, transportation and shopping facilities.</a:t>
            </a:r>
            <a:endParaRPr b="0" lang="en-US" sz="2700" spc="-1" strike="noStrike">
              <a:solidFill>
                <a:srgbClr val="e40059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A7ECB-EC3D-4DF4-9052-8C8D09F54A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057040" y="685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666666"/>
                </a:solidFill>
                <a:latin typeface="Cordia New"/>
                <a:ea typeface="Cordia New"/>
              </a:rPr>
              <a:t>Contact Us</a:t>
            </a:r>
            <a:endParaRPr b="0" lang="en-US" sz="4000" spc="-1" strike="noStrike">
              <a:solidFill>
                <a:srgbClr val="666666"/>
              </a:solidFill>
              <a:latin typeface="Arial Rounded MT Bol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057040" y="1828800"/>
            <a:ext cx="66294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e40059"/>
                </a:solidFill>
                <a:latin typeface="Cordia New"/>
                <a:ea typeface="Cordia New"/>
              </a:rPr>
              <a:t>254 Phayathai Road, Pathumwan, </a:t>
            </a:r>
            <a:endParaRPr b="0" lang="en-US" sz="3800" spc="-1" strike="noStrike">
              <a:solidFill>
                <a:srgbClr val="e40059"/>
              </a:solidFill>
              <a:latin typeface="Arial Rounded MT Bold"/>
            </a:endParaRPr>
          </a:p>
          <a:p>
            <a:pPr lvl="1"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e40059"/>
                </a:solidFill>
                <a:latin typeface="Cordia New"/>
                <a:ea typeface="Cordia New"/>
              </a:rPr>
              <a:t>Bangkok Thailand. 10330</a:t>
            </a:r>
            <a:endParaRPr b="0" lang="en-US" sz="3800" spc="-1" strike="noStrike">
              <a:solidFill>
                <a:srgbClr val="e40059"/>
              </a:solidFill>
              <a:latin typeface="Arial Rounded MT Bold"/>
            </a:endParaRPr>
          </a:p>
          <a:p>
            <a:pPr lvl="1"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800" spc="-1" strike="noStrike" u="sng">
                <a:solidFill>
                  <a:srgbClr val="17bbfd"/>
                </a:solidFill>
                <a:uFillTx/>
                <a:latin typeface="Cordia New"/>
                <a:ea typeface="Cordia New"/>
                <a:hlinkClick r:id="rId1"/>
              </a:rPr>
              <a:t>www.chula.ac.th</a:t>
            </a:r>
            <a:endParaRPr b="0" lang="en-US" sz="3800" spc="-1" strike="noStrike">
              <a:solidFill>
                <a:srgbClr val="e40059"/>
              </a:solidFill>
              <a:latin typeface="Arial Rounded MT Bold"/>
            </a:endParaRPr>
          </a:p>
          <a:p>
            <a:pPr lvl="1"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40059"/>
              </a:solidFill>
              <a:latin typeface="Arial Rounded MT Bold"/>
            </a:endParaRPr>
          </a:p>
          <a:p>
            <a:pPr lvl="1" marL="657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40059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42598-0B5A-40DB-BD89-A4AE9B4B67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08:38:19Z</dcterms:created>
  <dc:creator>R. Mongkolnavin</dc:creator>
  <dc:description/>
  <dc:language>en-US</dc:language>
  <cp:lastModifiedBy>CasperX</cp:lastModifiedBy>
  <dcterms:modified xsi:type="dcterms:W3CDTF">2009-03-23T10:08:33Z</dcterms:modified>
  <cp:revision>19</cp:revision>
  <dc:subject/>
  <dc:title>Slide 1</dc:title>
</cp:coreProperties>
</file>