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656CD9-C917-43D3-92DC-BF30C49905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47280" y="1196640"/>
            <a:ext cx="7139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3300"/>
              </a:solidFill>
              <a:latin typeface="Browallia New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547280" y="2349000"/>
            <a:ext cx="713916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547280" y="4455360"/>
            <a:ext cx="713916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7AB29-FA64-4B8B-88A3-9C5D4BD993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47280" y="1196640"/>
            <a:ext cx="7139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3300"/>
              </a:solidFill>
              <a:latin typeface="Browallia Ne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547280" y="2349000"/>
            <a:ext cx="34837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205600" y="2349000"/>
            <a:ext cx="34837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547280" y="4455360"/>
            <a:ext cx="34837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205600" y="4455360"/>
            <a:ext cx="34837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295161-492B-4955-9BE7-FE9E6795FF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47280" y="1196640"/>
            <a:ext cx="7139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3300"/>
              </a:solidFill>
              <a:latin typeface="Browallia Ne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547280" y="2349000"/>
            <a:ext cx="2298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961080" y="2349000"/>
            <a:ext cx="2298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375240" y="2349000"/>
            <a:ext cx="2298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1547280" y="4455360"/>
            <a:ext cx="2298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961080" y="4455360"/>
            <a:ext cx="2298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375240" y="4455360"/>
            <a:ext cx="2298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762CE3-2EE0-4A8B-A4AC-C24E8D301EB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547280" y="1196640"/>
            <a:ext cx="7139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3300"/>
              </a:solidFill>
              <a:latin typeface="Browallia New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1547280" y="2349000"/>
            <a:ext cx="7139160" cy="40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FA0BE0-6EEE-46DE-9DF5-9741FBBC39B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47280" y="1196640"/>
            <a:ext cx="7139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3300"/>
              </a:solidFill>
              <a:latin typeface="Browallia New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547280" y="2349000"/>
            <a:ext cx="713916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2BF8CD-87C0-438A-A79A-FC265E1E5B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47280" y="1196640"/>
            <a:ext cx="7139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3300"/>
              </a:solidFill>
              <a:latin typeface="Browallia New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47280" y="2349000"/>
            <a:ext cx="348372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205600" y="2349000"/>
            <a:ext cx="348372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887B97-2E8A-43AC-BBD7-E94D22AE52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47280" y="1196640"/>
            <a:ext cx="7139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3300"/>
              </a:solidFill>
              <a:latin typeface="Browallia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55D1FD-1AFC-406B-9511-DEF45A7F34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547280" y="1196640"/>
            <a:ext cx="7139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19B2F1-ECE1-4E16-8711-2B23747098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47280" y="1196640"/>
            <a:ext cx="7139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3300"/>
              </a:solidFill>
              <a:latin typeface="Browallia Ne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547280" y="2349000"/>
            <a:ext cx="34837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205600" y="2349000"/>
            <a:ext cx="348372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1547280" y="4455360"/>
            <a:ext cx="34837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3DA1D7-D446-48E9-8661-DA9F3AD70C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47280" y="1196640"/>
            <a:ext cx="7139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3300"/>
              </a:solidFill>
              <a:latin typeface="Browallia New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547280" y="2349000"/>
            <a:ext cx="348372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05600" y="2349000"/>
            <a:ext cx="34837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205600" y="4455360"/>
            <a:ext cx="34837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E20B67-CFE8-4312-9522-B8A7735EDF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47280" y="1196640"/>
            <a:ext cx="7139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3300"/>
              </a:solidFill>
              <a:latin typeface="Browallia New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547280" y="2349000"/>
            <a:ext cx="34837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205600" y="2349000"/>
            <a:ext cx="34837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547280" y="4455360"/>
            <a:ext cx="713916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F5E752-8258-4DAA-9BD4-8321EB6677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47280" y="1196640"/>
            <a:ext cx="7139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3300"/>
                </a:solidFill>
                <a:latin typeface="Browallia New"/>
              </a:rPr>
              <a:t>Click to edit the title text format</a:t>
            </a:r>
            <a:endParaRPr b="1" lang="en-US" sz="4400" spc="-1" strike="noStrike">
              <a:solidFill>
                <a:srgbClr val="663300"/>
              </a:solidFill>
              <a:latin typeface="Browallia Ne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47280" y="2349000"/>
            <a:ext cx="713916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ctr">
              <a:spcBef>
                <a:spcPts val="799"/>
              </a:spcBef>
              <a:buClr>
                <a:srgbClr val="663300"/>
              </a:buClr>
              <a:buFont typeface="Browalli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rowallia New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Browallia New"/>
            </a:endParaRPr>
          </a:p>
          <a:p>
            <a:pPr lvl="1" marL="668520" indent="-257040" algn="ctr">
              <a:spcBef>
                <a:spcPts val="799"/>
              </a:spcBef>
              <a:buClr>
                <a:srgbClr val="000000"/>
              </a:buClr>
              <a:buFont typeface="Browallia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rowallia New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Browallia New"/>
            </a:endParaRPr>
          </a:p>
          <a:p>
            <a:pPr lvl="2" marL="1028520" indent="-205560" algn="ctr">
              <a:spcBef>
                <a:spcPts val="799"/>
              </a:spcBef>
              <a:buClr>
                <a:srgbClr val="000000"/>
              </a:buClr>
              <a:buFont typeface="Browalli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rowallia New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Browallia New"/>
            </a:endParaRPr>
          </a:p>
          <a:p>
            <a:pPr lvl="3" marL="1440000" indent="-205560" algn="ctr">
              <a:spcBef>
                <a:spcPts val="799"/>
              </a:spcBef>
              <a:buClr>
                <a:srgbClr val="000000"/>
              </a:buClr>
              <a:buFont typeface="Browallia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rowallia New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Browallia New"/>
            </a:endParaRPr>
          </a:p>
          <a:p>
            <a:pPr lvl="4" marL="1851480" indent="-205560" algn="ctr">
              <a:spcBef>
                <a:spcPts val="799"/>
              </a:spcBef>
              <a:buClr>
                <a:srgbClr val="000000"/>
              </a:buClr>
              <a:buFont typeface="Browallia Ne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rowallia New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Browallia New"/>
            </a:endParaRPr>
          </a:p>
          <a:p>
            <a:pPr lvl="5" marL="1851480" indent="-205560" algn="ctr">
              <a:spcBef>
                <a:spcPts val="799"/>
              </a:spcBef>
              <a:buClr>
                <a:srgbClr val="000000"/>
              </a:buClr>
              <a:buFont typeface="Browallia Ne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rowallia New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Browallia New"/>
            </a:endParaRPr>
          </a:p>
          <a:p>
            <a:pPr lvl="6" marL="1851480" indent="-205560" algn="ctr">
              <a:spcBef>
                <a:spcPts val="799"/>
              </a:spcBef>
              <a:buClr>
                <a:srgbClr val="000000"/>
              </a:buClr>
              <a:buFont typeface="Browallia Ne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rowallia New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596000" y="6453000"/>
            <a:ext cx="1090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D5370-6813-4E97-9121-7EDD854A3D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chula.ac.th/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859280" y="5084640"/>
            <a:ext cx="417672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3300"/>
              </a:solidFill>
              <a:latin typeface="Browallia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92E458-3DFC-4845-BF80-1DF02F632ED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47280" y="1196640"/>
            <a:ext cx="7139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3300"/>
              </a:solidFill>
              <a:latin typeface="Browallia Ne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547280" y="2349000"/>
            <a:ext cx="713916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6B7898-194B-47F2-8B87-6BC03B17C91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47280" y="1196640"/>
            <a:ext cx="7139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3300"/>
              </a:solidFill>
              <a:latin typeface="Browallia New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547280" y="2349000"/>
            <a:ext cx="713916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5EF265-FC5C-42AC-9236-94C529CB9F2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47280" y="1196640"/>
            <a:ext cx="7139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6000" spc="-1" strike="noStrike">
                <a:solidFill>
                  <a:srgbClr val="663300"/>
                </a:solidFill>
                <a:latin typeface="Cordia New"/>
                <a:ea typeface="Cordia New"/>
              </a:rPr>
              <a:t>Chulalongkorn University</a:t>
            </a:r>
            <a:endParaRPr b="1" lang="en-US" sz="6000" spc="-1" strike="noStrike">
              <a:solidFill>
                <a:srgbClr val="663300"/>
              </a:solidFill>
              <a:latin typeface="Browallia Ne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47280" y="2349000"/>
            <a:ext cx="713916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lvl="1" marL="623880" indent="-23976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rdia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Cordia New"/>
                <a:ea typeface="Cordia New"/>
              </a:rPr>
              <a:t>Chulalongkorn University is Thailand’s first institution of higher education founded nearly        a century ago.</a:t>
            </a:r>
            <a:endParaRPr b="1" lang="en-US" sz="3200" spc="-1" strike="noStrike">
              <a:solidFill>
                <a:srgbClr val="000000"/>
              </a:solidFill>
              <a:latin typeface="Browallia New"/>
            </a:endParaRPr>
          </a:p>
          <a:p>
            <a:pPr lvl="1" marL="623880" indent="-23976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rdia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Cordia New"/>
                <a:ea typeface="Cordia New"/>
              </a:rPr>
              <a:t>As a national intellectual center, the university produces the finest quality graduates with a high level of knowledge and skills in the arts and sciences that they can use to contribute to society.</a:t>
            </a:r>
            <a:endParaRPr b="1" lang="en-US" sz="32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894043-C881-4E1E-9544-17B7549B0FC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47280" y="1196640"/>
            <a:ext cx="7139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6000" spc="-1" strike="noStrike">
                <a:solidFill>
                  <a:srgbClr val="663300"/>
                </a:solidFill>
                <a:latin typeface="Cordia New"/>
                <a:ea typeface="Cordia New"/>
              </a:rPr>
              <a:t>Chulalongkorn University is </a:t>
            </a:r>
            <a:endParaRPr b="1" lang="en-US" sz="6000" spc="-1" strike="noStrike">
              <a:solidFill>
                <a:srgbClr val="663300"/>
              </a:solidFill>
              <a:latin typeface="Browallia New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547280" y="2349000"/>
            <a:ext cx="713916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lvl="1" marL="646200" indent="-248400" algn="ctr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rdia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Cordia New"/>
                <a:ea typeface="Cordia New"/>
              </a:rPr>
              <a:t>Thailand’s oldest and one of the country’s most prestigious universities. </a:t>
            </a:r>
            <a:endParaRPr b="1" lang="en-US" sz="3600" spc="-1" strike="noStrike">
              <a:solidFill>
                <a:srgbClr val="000000"/>
              </a:solidFill>
              <a:latin typeface="Browallia New"/>
            </a:endParaRPr>
          </a:p>
          <a:p>
            <a:pPr lvl="1" marL="646200" indent="-248400" algn="ctr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rdia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Cordia New"/>
                <a:ea typeface="Cordia New"/>
              </a:rPr>
              <a:t>Officially established on March 26, 1917 by King Vajiravudh (Rama VI) and named after his father King Chulalongkorn (Rama V).</a:t>
            </a:r>
            <a:endParaRPr b="1" lang="en-US" sz="36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8A9064-81F8-4586-991D-68F6623E878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47280" y="1196640"/>
            <a:ext cx="7139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6000" spc="-1" strike="noStrike">
                <a:solidFill>
                  <a:srgbClr val="663300"/>
                </a:solidFill>
                <a:latin typeface="Cordia New"/>
                <a:ea typeface="Cordia New"/>
              </a:rPr>
              <a:t>International Outlook</a:t>
            </a:r>
            <a:endParaRPr b="1" lang="en-US" sz="6000" spc="-1" strike="noStrike">
              <a:solidFill>
                <a:srgbClr val="663300"/>
              </a:solidFill>
              <a:latin typeface="Browallia New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47280" y="2349000"/>
            <a:ext cx="713916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lvl="1" marL="586800" indent="-225720" algn="ctr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rdia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Cordia New"/>
                <a:ea typeface="Cordia New"/>
              </a:rPr>
              <a:t>Chulalongkorn University is Thailand’s top ranked university and 166 in the THE-QS World University Ranking 2008.</a:t>
            </a:r>
            <a:endParaRPr b="1" lang="en-US" sz="2400" spc="-1" strike="noStrike">
              <a:solidFill>
                <a:srgbClr val="000000"/>
              </a:solidFill>
              <a:latin typeface="Browallia New"/>
            </a:endParaRPr>
          </a:p>
          <a:p>
            <a:pPr lvl="1" marL="586800" indent="-225720" algn="ctr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rdia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Cordia New"/>
                <a:ea typeface="Cordia New"/>
              </a:rPr>
              <a:t>Chulalongkorn University is cooperating with a large number of universities worldwide.</a:t>
            </a:r>
            <a:endParaRPr b="1" lang="en-US" sz="2400" spc="-1" strike="noStrike">
              <a:solidFill>
                <a:srgbClr val="000000"/>
              </a:solidFill>
              <a:latin typeface="Browallia New"/>
            </a:endParaRPr>
          </a:p>
          <a:p>
            <a:pPr lvl="1" marL="586800" indent="-225720" algn="ctr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rdia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Cordia New"/>
                <a:ea typeface="Cordia New"/>
              </a:rPr>
              <a:t>Activities under the agreements cover research collaboration, information sharing, and faculty and student exchange. </a:t>
            </a:r>
            <a:endParaRPr b="1" lang="en-US" sz="2400" spc="-1" strike="noStrike">
              <a:solidFill>
                <a:srgbClr val="000000"/>
              </a:solidFill>
              <a:latin typeface="Browallia New"/>
            </a:endParaRPr>
          </a:p>
          <a:p>
            <a:pPr lvl="1" marL="586800" indent="-225720" algn="ctr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rdia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Cordia New"/>
                <a:ea typeface="Cordia New"/>
              </a:rPr>
              <a:t>The university is a member of higher educational institutions networks such as the International Association of Universities (IAU), the Association of Pacific Rim Universities (APRU), and ASEAN University Network (AUN).</a:t>
            </a:r>
            <a:endParaRPr b="1" lang="en-US" sz="24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0952E6-66A5-4B7A-BF44-D9522E3124D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47280" y="1196640"/>
            <a:ext cx="7139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800" spc="-1" strike="noStrike">
                <a:solidFill>
                  <a:srgbClr val="663300"/>
                </a:solidFill>
                <a:latin typeface="Cordia New"/>
                <a:ea typeface="Cordia New"/>
              </a:rPr>
              <a:t>CU Facts &amp; Figures </a:t>
            </a:r>
            <a:r>
              <a:rPr b="1" lang="en-US" sz="4800" spc="-1" strike="noStrike">
                <a:solidFill>
                  <a:srgbClr val="663300"/>
                </a:solidFill>
                <a:latin typeface="Cordia New"/>
                <a:ea typeface="Cordia New"/>
              </a:rPr>
              <a:t>: </a:t>
            </a:r>
            <a:r>
              <a:rPr b="1" i="1" lang="en-US" sz="4800" spc="-1" strike="noStrike">
                <a:solidFill>
                  <a:srgbClr val="663300"/>
                </a:solidFill>
                <a:latin typeface="Cordia New"/>
                <a:ea typeface="Cordia New"/>
              </a:rPr>
              <a:t>Data in 2008</a:t>
            </a:r>
            <a:endParaRPr b="1" lang="en-US" sz="4800" spc="-1" strike="noStrike">
              <a:solidFill>
                <a:srgbClr val="663300"/>
              </a:solidFill>
              <a:latin typeface="Browallia Ne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547280" y="2349000"/>
            <a:ext cx="713916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lvl="1" marL="549720" indent="-211320" algn="ctr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rdia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Cordia New"/>
                <a:ea typeface="Cordia New"/>
              </a:rPr>
              <a:t>Chualongkorn Unviersity consists of 18 faculties, three schools, three colleges and six institutes.</a:t>
            </a:r>
            <a:endParaRPr b="1" lang="en-US" sz="2800" spc="-1" strike="noStrike">
              <a:solidFill>
                <a:srgbClr val="000000"/>
              </a:solidFill>
              <a:latin typeface="Browallia New"/>
            </a:endParaRPr>
          </a:p>
          <a:p>
            <a:pPr lvl="1" marL="549720" indent="-211320" algn="ctr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rdia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Cordia New"/>
                <a:ea typeface="Cordia New"/>
              </a:rPr>
              <a:t>The university has a total of 32,511 students.              The undergraduate student body numbers 20,419.</a:t>
            </a:r>
            <a:endParaRPr b="1" lang="en-US" sz="2800" spc="-1" strike="noStrike">
              <a:solidFill>
                <a:srgbClr val="000000"/>
              </a:solidFill>
              <a:latin typeface="Browallia New"/>
            </a:endParaRPr>
          </a:p>
          <a:p>
            <a:pPr lvl="1" marL="549720" indent="-211320" algn="ctr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rdia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Cordia New"/>
                <a:ea typeface="Cordia New"/>
              </a:rPr>
              <a:t>Currently, there are 9,740 students studying for their Master degree and 1,737 studying for their Doctorate.</a:t>
            </a:r>
            <a:endParaRPr b="1" lang="en-US" sz="2800" spc="-1" strike="noStrike">
              <a:solidFill>
                <a:srgbClr val="000000"/>
              </a:solidFill>
              <a:latin typeface="Browallia New"/>
            </a:endParaRPr>
          </a:p>
          <a:p>
            <a:pPr lvl="1" marL="549720" indent="-211320" algn="ctr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rdia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Cordia New"/>
                <a:ea typeface="Cordia New"/>
              </a:rPr>
              <a:t>Faculty and staff, including government officials and university personnel is numbering at 7,851.</a:t>
            </a:r>
            <a:endParaRPr b="1" lang="en-US" sz="28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02EFC8-FB2B-442E-8501-8BAA9CAE2FB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47280" y="1196640"/>
            <a:ext cx="7139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6000" spc="-1" strike="noStrike">
                <a:solidFill>
                  <a:srgbClr val="663300"/>
                </a:solidFill>
                <a:latin typeface="Cordia New"/>
                <a:ea typeface="Cordia New"/>
              </a:rPr>
              <a:t>Location</a:t>
            </a:r>
            <a:endParaRPr b="1" lang="en-US" sz="6000" spc="-1" strike="noStrike">
              <a:solidFill>
                <a:srgbClr val="663300"/>
              </a:solidFill>
              <a:latin typeface="Browallia Ne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47280" y="2349000"/>
            <a:ext cx="713916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lvl="1" marL="594360" indent="-228600" algn="ctr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rdia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Cordia New"/>
                <a:ea typeface="Cordia New"/>
              </a:rPr>
              <a:t>Chulalongkorn University’s campus is located in the heart of downtown Bangkok, the capital city of Thailand. </a:t>
            </a:r>
            <a:endParaRPr b="1" lang="en-US" sz="2800" spc="-1" strike="noStrike">
              <a:solidFill>
                <a:srgbClr val="000000"/>
              </a:solidFill>
              <a:latin typeface="Browallia New"/>
            </a:endParaRPr>
          </a:p>
          <a:p>
            <a:pPr lvl="1" marL="594360" indent="-228600" algn="ctr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rdia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Cordia New"/>
                <a:ea typeface="Cordia New"/>
              </a:rPr>
              <a:t>On the campus, one can find himself surrounded by very green and beautiful landscape and serene academic environment as well as high-quality facilities to enhance the ability for learning in the age of globalization. </a:t>
            </a:r>
            <a:endParaRPr b="1" lang="en-US" sz="2800" spc="-1" strike="noStrike">
              <a:solidFill>
                <a:srgbClr val="000000"/>
              </a:solidFill>
              <a:latin typeface="Browallia New"/>
            </a:endParaRPr>
          </a:p>
          <a:p>
            <a:pPr lvl="1" marL="594360" indent="-228600" algn="ctr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rdia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Cordia New"/>
                <a:ea typeface="Cordia New"/>
              </a:rPr>
              <a:t>In the vicinity, one is provided with complete conveniences---housing, transportation and shopping facilities.</a:t>
            </a:r>
            <a:endParaRPr b="1" lang="en-US" sz="28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D17AAF-E11C-4125-B1D2-57091BB7E46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47280" y="1196640"/>
            <a:ext cx="7139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6000" spc="-1" strike="noStrike">
                <a:solidFill>
                  <a:srgbClr val="663300"/>
                </a:solidFill>
                <a:latin typeface="Cordia New"/>
                <a:ea typeface="Cordia New"/>
              </a:rPr>
              <a:t>Contact Us</a:t>
            </a:r>
            <a:endParaRPr b="1" lang="en-US" sz="6000" spc="-1" strike="noStrike">
              <a:solidFill>
                <a:srgbClr val="663300"/>
              </a:solidFill>
              <a:latin typeface="Browallia Ne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547280" y="2349000"/>
            <a:ext cx="713916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Cordia New"/>
                <a:ea typeface="Cordia New"/>
              </a:rPr>
              <a:t>254 Phayathai Road, Pathumwan, </a:t>
            </a:r>
            <a:endParaRPr b="1" lang="en-US" sz="4000" spc="-1" strike="noStrike">
              <a:solidFill>
                <a:srgbClr val="000000"/>
              </a:solidFill>
              <a:latin typeface="Browallia New"/>
            </a:endParaRPr>
          </a:p>
          <a:p>
            <a:pPr lvl="1" marL="74304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Cordia New"/>
                <a:ea typeface="Cordia New"/>
              </a:rPr>
              <a:t>Bangkok Thailand. 10330</a:t>
            </a:r>
            <a:endParaRPr b="1" lang="en-US" sz="4000" spc="-1" strike="noStrike">
              <a:solidFill>
                <a:srgbClr val="000000"/>
              </a:solidFill>
              <a:latin typeface="Browallia New"/>
            </a:endParaRPr>
          </a:p>
          <a:p>
            <a:pPr lvl="1" marL="74304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 u="sng">
                <a:solidFill>
                  <a:srgbClr val="009999"/>
                </a:solidFill>
                <a:uFillTx/>
                <a:latin typeface="Cordia New"/>
                <a:ea typeface="Cordia New"/>
                <a:hlinkClick r:id="rId2"/>
              </a:rPr>
              <a:t>www.chula.ac.th</a:t>
            </a:r>
            <a:endParaRPr b="1" lang="en-US" sz="4000" spc="-1" strike="noStrike">
              <a:solidFill>
                <a:srgbClr val="000000"/>
              </a:solidFill>
              <a:latin typeface="Browallia New"/>
            </a:endParaRPr>
          </a:p>
          <a:p>
            <a:pPr lvl="1" marL="74304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Browallia New"/>
            </a:endParaRPr>
          </a:p>
          <a:p>
            <a:pPr lvl="1" marL="743040"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8334ED-EB87-4BAC-9E1A-AD2ACD6C2A2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3T19:15:09Z</dcterms:created>
  <dc:creator>iLLuSioN</dc:creator>
  <dc:description/>
  <dc:language>en-US</dc:language>
  <cp:lastModifiedBy>CasperX</cp:lastModifiedBy>
  <dcterms:modified xsi:type="dcterms:W3CDTF">2009-03-23T10:10:31Z</dcterms:modified>
  <cp:revision>7</cp:revision>
  <dc:subject/>
  <dc:title>ภาพนิ่ง 1</dc:title>
</cp:coreProperties>
</file>