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1E4-17ED-489E-A958-21478FA1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D77-425D-42D1-A732-D4E9D7F1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B42-4D63-4413-A59A-685373E5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B75-7EAD-487E-B130-4A21DE38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3F33-0911-4D53-B5A5-D34A7DB8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A454-A7D0-4155-841C-B3EA2DFE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DAAB-FCCF-4586-B179-2B801903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BCF2-D221-41E5-9D5A-C291A113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2264-F35E-4610-A34D-516BB864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EA55-10F5-4837-B516-685C9C94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E274-67F4-4A6E-B9B1-EF361179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A30-463D-434D-ADAA-6492A83E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D5F4-3500-46E0-8267-D360C500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6F77-DBD0-41BC-BC92-6A0E6084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27CE-FFE3-48A1-ABB6-F3B055D6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9BDC-4775-4E3F-ABD2-77649856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2050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E444-34BA-474D-809B-E3815209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FE8-8A32-4183-B560-4F8F215A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F91-71A3-4701-97C1-0A3281B1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1CE-459C-4D1E-90FE-8363FD6A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2C4-05E4-4B2B-96ED-BD148C95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473-EF93-4E68-BB95-2696FC7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819-96E6-4DA9-A4DD-C0A58029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05000"/>
            <a:ext cx="40158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CC19-1E42-4BED-80A0-FB47EF0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0186-201A-40C4-BEFA-2509E5B52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0" y="3038400"/>
            <a:ext cx="5108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527-3649-4348-8772-C7669857D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ula.ac.th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80000" y="3038400"/>
            <a:ext cx="5108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79640" y="4797000"/>
            <a:ext cx="5105160" cy="1536840"/>
          </a:xfrm>
          <a:prstGeom prst="rect">
            <a:avLst/>
          </a:prstGeom>
          <a:solidFill>
            <a:srgbClr val="808080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A5AA-46D8-4ABC-8877-951F1B2019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535-2749-4E87-807B-E4FAE91504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A8A-3E52-4204-8990-14B4BC05A0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Chulalongkorn University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</a:rPr>
              <a:t>Chulalongkorn University is Thailand’s first institution of higher education founded nearly a century ago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 New"/>
              </a:rPr>
              <a:t>As a national intellectual center, the university produces    the finest quality graduates with a high level of knowledge and skills in the arts and sciences that they can use to contribute to society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58C-BE26-4D15-89DB-1387AC8741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Chulalongkorn University is 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</a:rPr>
              <a:t>Thailand’s oldest and one of the country’s most prestigious universities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 New"/>
              </a:rPr>
              <a:t>Officially established on March 26, 1917 by King Vajiravudh (Rama VI) and named after his father King Chulalongkorn (Rama V)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F33-F07C-445E-9475-317B9A223B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International Outlook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Cordia New"/>
              </a:rPr>
              <a:t>Chulalongkorn University is Thailand’s top ranked university and 166 in the THE-QS World University Ranking 2008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Cordia New"/>
              </a:rPr>
              <a:t>Chulalongkorn University is cooperating with a large number of universities worldwide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Cordia New"/>
              </a:rPr>
              <a:t>Activities under the agreements cover research collaboration, information sharing, and faculty and student exchange. 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Cordia New"/>
              </a:rPr>
              <a:t>The university is a member of higher educational institutions networks such as the International Association of Universities (IAU), the Association of Pacific Rim Universities (APRU), and ASEAN University Network (AUN)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D6E-ABCE-46DA-B824-0C3134D481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CU Facts &amp; Figures </a:t>
            </a:r>
            <a:r>
              <a:rPr b="1" lang="en-US" sz="3600" spc="-1" strike="noStrike">
                <a:solidFill>
                  <a:srgbClr val="660033"/>
                </a:solidFill>
                <a:latin typeface="Cordia New"/>
              </a:rPr>
              <a:t>: </a:t>
            </a:r>
            <a:r>
              <a:rPr b="1" i="1" lang="en-US" sz="3600" spc="-1" strike="noStrike">
                <a:solidFill>
                  <a:srgbClr val="660033"/>
                </a:solidFill>
                <a:latin typeface="Cordia New"/>
              </a:rPr>
              <a:t>Data in 2008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Chualongkorn Unviersity consists of 18 faculties, three schools, three colleges and six institut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The university has a total of 32,511 students. The undergraduate student body numbers 20,419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Currently, there are 9,740 students studying for their Master degree and 1,737 studying for their Doctorat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Faculty and staff, including government officials and university personnel is numbering at 7,851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B4D-CB1F-4797-B31F-100813C782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Location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Chulalongkorn University’s campus is located in the heart of downtown Bangkok, the capital city of Thailand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On the campus, one can find himself surrounded by very green and beautiful landscape and serene academic environment as well as high-quality facilities to enhance the ability for learning in the age of globalization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rdi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 New"/>
              </a:rPr>
              <a:t>In the vicinity, one is provided with complete conveniences---housing, transportation and shopping faciliti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401-DC59-4BFA-8165-A1AE0949DB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0033"/>
                </a:solidFill>
                <a:latin typeface="Cordia New"/>
              </a:rPr>
              <a:t>Contact Us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Cordia New"/>
              </a:rPr>
              <a:t>254 Phayathai Road, Pathumwan,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Cordia New"/>
              </a:rPr>
              <a:t>Bangkok Thailand. 10330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9999"/>
                </a:solidFill>
                <a:uFillTx/>
                <a:latin typeface="Cordia New"/>
                <a:hlinkClick r:id="rId2"/>
              </a:rPr>
              <a:t>www.chula.ac.th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DFC-3ABE-421D-B55C-5611B283BD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0:54:40Z</dcterms:created>
  <dc:creator>iLLuSioN</dc:creator>
  <dc:description/>
  <dc:language>en-US</dc:language>
  <cp:lastModifiedBy>CasperX</cp:lastModifiedBy>
  <dcterms:modified xsi:type="dcterms:W3CDTF">2009-03-23T10:12:08Z</dcterms:modified>
  <cp:revision>44</cp:revision>
  <dc:subject/>
  <dc:title>ภาพนิ่ง 1</dc:title>
</cp:coreProperties>
</file>