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D8F5-6342-44FE-AEAE-985ADF716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AAEC-759D-4E4C-8E1F-89827FDF0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8FFC-D72F-4CAB-BA70-BFEFE9CBF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568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213372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568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4352760"/>
            <a:ext cx="26460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DE50-5BB8-4FC5-9D8A-75DFCB03F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0D0E-4DFB-4FB3-9F11-B1698FB38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E250-7BB4-43CF-A693-821BA7788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E482-50B5-4488-9241-B57C05C78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5272-4576-48A8-BA45-E2322CE4F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74B-001E-4699-8BDB-81BC4B720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7D98-554B-449D-AD50-B757CB9E3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120" y="435276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BA26-C5DF-4912-93BC-7B331F81E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2133720"/>
            <a:ext cx="40104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52760"/>
            <a:ext cx="821844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CF9E-1971-4124-86D0-77D8055EC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29292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00" y="6453000"/>
            <a:ext cx="1090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C2A2-552D-45BF-BB0D-F5F46AD7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" y="5157720"/>
            <a:ext cx="52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4000" spc="-1" strike="noStrike">
              <a:solidFill>
                <a:srgbClr val="99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00"/>
                </a:solidFill>
                <a:latin typeface="Cordia New"/>
                <a:ea typeface="Cordia New"/>
              </a:rPr>
              <a:t>Chulalongkorn University</a:t>
            </a:r>
            <a:endParaRPr b="1" lang="en-US" sz="5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 algn="ctr">
              <a:lnSpc>
                <a:spcPct val="100000"/>
              </a:lnSpc>
              <a:spcBef>
                <a:spcPts val="901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292929"/>
                </a:solidFill>
                <a:latin typeface="Cordia New"/>
                <a:ea typeface="Cordia New"/>
              </a:rPr>
              <a:t>Chulalongkorn University is Thailand’s first institution of higher education founded nearly a century ago.</a:t>
            </a: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  <a:p>
            <a:pPr lvl="1" marL="616680" indent="-237240" algn="ctr">
              <a:lnSpc>
                <a:spcPct val="100000"/>
              </a:lnSpc>
              <a:spcBef>
                <a:spcPts val="901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292929"/>
                </a:solidFill>
                <a:latin typeface="Cordia New"/>
                <a:ea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0" lang="en-US" sz="36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00"/>
                </a:solidFill>
                <a:latin typeface="Cordia New"/>
                <a:ea typeface="Cordia New"/>
              </a:rPr>
              <a:t>Chulalongkorn University is </a:t>
            </a:r>
            <a:endParaRPr b="1" lang="en-US" sz="5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ctr">
              <a:lnSpc>
                <a:spcPct val="100000"/>
              </a:lnSpc>
              <a:spcBef>
                <a:spcPts val="1001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292929"/>
                </a:solidFill>
                <a:latin typeface="Cordia New"/>
                <a:ea typeface="Cordia New"/>
              </a:rPr>
              <a:t>Thailand’s oldest and one of the country’s most prestigious universities. </a:t>
            </a: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1001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292929"/>
                </a:solidFill>
                <a:latin typeface="Cordia New"/>
                <a:ea typeface="Cordia New"/>
              </a:rPr>
              <a:t>Officially established on March 26, 1917 by King Vajiravudh (Rama VI) and named after his father King Chulalongkorn (Rama V).</a:t>
            </a:r>
            <a:endParaRPr b="0" lang="en-US" sz="40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00"/>
                </a:solidFill>
                <a:latin typeface="Cordia New"/>
                <a:ea typeface="Cordia New"/>
              </a:rPr>
              <a:t>International Outlook</a:t>
            </a:r>
            <a:endParaRPr b="1" lang="en-US" sz="5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ctr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292929"/>
                </a:solidFill>
                <a:latin typeface="Cordia New"/>
                <a:ea typeface="Cordia New"/>
              </a:rPr>
              <a:t>Chulalongkorn University is Thailand’s top ranked university and 166 in the THE-QS World University Ranking 2008.</a:t>
            </a:r>
            <a:endParaRPr b="0" lang="en-US" sz="2600" spc="-1" strike="noStrike">
              <a:solidFill>
                <a:srgbClr val="292929"/>
              </a:solidFill>
              <a:latin typeface="Comic Sans MS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292929"/>
                </a:solidFill>
                <a:latin typeface="Cordia New"/>
                <a:ea typeface="Cordia New"/>
              </a:rPr>
              <a:t>Chulalongkorn University is cooperating with a large number of universities worldwide.</a:t>
            </a:r>
            <a:endParaRPr b="0" lang="en-US" sz="2600" spc="-1" strike="noStrike">
              <a:solidFill>
                <a:srgbClr val="292929"/>
              </a:solidFill>
              <a:latin typeface="Comic Sans MS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292929"/>
                </a:solidFill>
                <a:latin typeface="Cordia New"/>
                <a:ea typeface="Cordia New"/>
              </a:rPr>
              <a:t>Activities under the agreements cover research collaboration, information sharing, and faculty and student exchange. </a:t>
            </a:r>
            <a:endParaRPr b="0" lang="en-US" sz="2600" spc="-1" strike="noStrike">
              <a:solidFill>
                <a:srgbClr val="292929"/>
              </a:solidFill>
              <a:latin typeface="Comic Sans MS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292929"/>
                </a:solidFill>
                <a:latin typeface="Cordia New"/>
                <a:ea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0" lang="en-US" sz="26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6600"/>
                </a:solidFill>
                <a:latin typeface="Cordia New"/>
                <a:ea typeface="Cordia New"/>
              </a:rPr>
              <a:t>CU Facts &amp; Figures </a:t>
            </a:r>
            <a:r>
              <a:rPr b="1" lang="en-US" sz="4000" spc="-1" strike="noStrike">
                <a:solidFill>
                  <a:srgbClr val="006600"/>
                </a:solidFill>
                <a:latin typeface="Cordia New"/>
                <a:ea typeface="Cordia New"/>
              </a:rPr>
              <a:t>: </a:t>
            </a:r>
            <a:r>
              <a:rPr b="1" i="1" lang="en-US" sz="4000" spc="-1" strike="noStrike">
                <a:solidFill>
                  <a:srgbClr val="006600"/>
                </a:solidFill>
                <a:latin typeface="Cordia New"/>
                <a:ea typeface="Cordia New"/>
              </a:rPr>
              <a:t>Data in 2008</a:t>
            </a:r>
            <a:endParaRPr b="1" lang="en-US" sz="4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92929"/>
                </a:solidFill>
                <a:latin typeface="Cordia New"/>
                <a:ea typeface="Cordia New"/>
              </a:rPr>
              <a:t>Chualongkorn Unviersity consists of 18 faculties, three schools, three colleges and six institutes.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92929"/>
                </a:solidFill>
                <a:latin typeface="Cordia New"/>
                <a:ea typeface="Cordia New"/>
              </a:rPr>
              <a:t>The university has a total of 32,511 students. The undergraduate student body numbers 20,419.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92929"/>
                </a:solidFill>
                <a:latin typeface="Cordia New"/>
                <a:ea typeface="Cordia New"/>
              </a:rPr>
              <a:t>Currently, there are 9,740 students studying for their Master degree and 1,737 studying for their Doctorate.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292929"/>
                </a:solidFill>
                <a:latin typeface="Cordia New"/>
                <a:ea typeface="Cordia New"/>
              </a:rPr>
              <a:t>Faculty and staff, including government officials and university personnel is numbering at 7,851.</a:t>
            </a:r>
            <a:endParaRPr b="0" lang="en-US" sz="28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00"/>
                </a:solidFill>
                <a:latin typeface="Cordia New"/>
                <a:ea typeface="Cordia New"/>
              </a:rPr>
              <a:t>Location</a:t>
            </a:r>
            <a:endParaRPr b="1" lang="en-US" sz="5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-211320" algn="ctr"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292929"/>
                </a:solidFill>
                <a:latin typeface="Cordia New"/>
                <a:ea typeface="Cordia New"/>
              </a:rPr>
              <a:t>Chulalongkorn University’s campus is located in the heart of downtown Bangkok, the capital city of Thailand. 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549720" indent="-211320" algn="ctr"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292929"/>
                </a:solidFill>
                <a:latin typeface="Cordia New"/>
                <a:ea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  <a:p>
            <a:pPr lvl="1" marL="549720" indent="-211320" algn="ctr">
              <a:lnSpc>
                <a:spcPct val="100000"/>
              </a:lnSpc>
              <a:spcBef>
                <a:spcPts val="799"/>
              </a:spcBef>
              <a:buClr>
                <a:srgbClr val="292929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292929"/>
                </a:solidFill>
                <a:latin typeface="Cordia New"/>
                <a:ea typeface="Cordia New"/>
              </a:rPr>
              <a:t>In the vicinity, one is provided with complete conveniences---housing, transportation and shopping facilities.</a:t>
            </a:r>
            <a:endParaRPr b="0" lang="en-US" sz="32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6600"/>
                </a:solidFill>
                <a:latin typeface="Cordia New"/>
                <a:ea typeface="Cordia New"/>
              </a:rPr>
              <a:t>Contact Us</a:t>
            </a:r>
            <a:endParaRPr b="1" lang="en-US" sz="5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  <a:ea typeface="Cordia New"/>
              </a:rPr>
              <a:t>254 Phayathai Road, Pathumwan, </a:t>
            </a:r>
            <a:endParaRPr b="0" lang="en-US" sz="44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  <a:ea typeface="Cordia New"/>
              </a:rPr>
              <a:t>Bangkok Thailand. 10330</a:t>
            </a:r>
            <a:endParaRPr b="0" lang="en-US" sz="44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009999"/>
                </a:solidFill>
                <a:uFillTx/>
                <a:latin typeface="Cordia New"/>
                <a:ea typeface="Cordia New"/>
                <a:hlinkClick r:id="rId2"/>
              </a:rPr>
              <a:t>www.chula.ac.th</a:t>
            </a:r>
            <a:endParaRPr b="0" lang="en-US" sz="4400" spc="-1" strike="noStrike">
              <a:solidFill>
                <a:srgbClr val="292929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09:27Z</dcterms:created>
  <dc:creator>iLLuSioN</dc:creator>
  <dc:description/>
  <dc:language>en-US</dc:language>
  <cp:lastModifiedBy>CasperX</cp:lastModifiedBy>
  <dcterms:modified xsi:type="dcterms:W3CDTF">2009-03-23T10:09:54Z</dcterms:modified>
  <cp:revision>7</cp:revision>
  <dc:subject/>
  <dc:title>ภาพนิ่ง 1</dc:title>
</cp:coreProperties>
</file>