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747320"/>
            <a:ext cx="821844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4010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2565360"/>
            <a:ext cx="4010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747320"/>
            <a:ext cx="4010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9280" y="4747320"/>
            <a:ext cx="4010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2646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6840" y="2565360"/>
            <a:ext cx="2646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5320" y="2565360"/>
            <a:ext cx="2646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747320"/>
            <a:ext cx="2646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6840" y="4747320"/>
            <a:ext cx="2646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5320" y="4747320"/>
            <a:ext cx="2646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2565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4010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9280" y="2565360"/>
            <a:ext cx="4010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4010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2565360"/>
            <a:ext cx="4010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747320"/>
            <a:ext cx="4010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4010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2565360"/>
            <a:ext cx="4010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9280" y="4747320"/>
            <a:ext cx="4010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4010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2565360"/>
            <a:ext cx="4010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747320"/>
            <a:ext cx="821844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565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ula.ac.th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08360" y="2346120"/>
            <a:ext cx="4967280" cy="12985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492000" y="3860640"/>
            <a:ext cx="5543640" cy="14875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4d4d4d"/>
                </a:solidFill>
                <a:latin typeface="Cordia New"/>
              </a:rPr>
              <a:t>Chulalongkorn University</a:t>
            </a: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 algn="ctr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800080"/>
                </a:solidFill>
                <a:latin typeface="Cordia New"/>
              </a:rPr>
              <a:t>Chulalongkorn University is Thailand’s first institution of higher education founded nearly a century ago.</a:t>
            </a: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  <a:p>
            <a:pPr lvl="1" marL="683280" indent="-262800" algn="ctr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800080"/>
                </a:solidFill>
                <a:latin typeface="Cordia New"/>
              </a:rPr>
              <a:t>As a national intellectual center, the university produces the finest quality graduates with a high level of knowledge and skills in the arts and sciences that they can use to contribute to society.</a:t>
            </a:r>
            <a:endParaRPr b="1" lang="en-US" sz="32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4d4d4d"/>
                </a:solidFill>
                <a:latin typeface="Cordia New"/>
              </a:rPr>
              <a:t>Chulalongkorn University is </a:t>
            </a: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 algn="ctr">
              <a:lnSpc>
                <a:spcPct val="100000"/>
              </a:lnSpc>
              <a:spcBef>
                <a:spcPts val="901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800080"/>
                </a:solidFill>
                <a:latin typeface="Cordia New"/>
              </a:rPr>
              <a:t>Thailand’s oldest and one of the country’s most prestigious universities. </a:t>
            </a:r>
            <a:endParaRPr b="1" lang="en-US" sz="3600" spc="-1" strike="noStrike">
              <a:solidFill>
                <a:srgbClr val="800080"/>
              </a:solidFill>
              <a:latin typeface="Comic Sans MS"/>
            </a:endParaRPr>
          </a:p>
          <a:p>
            <a:pPr lvl="1" marL="727920" indent="-280080" algn="ctr">
              <a:lnSpc>
                <a:spcPct val="100000"/>
              </a:lnSpc>
              <a:spcBef>
                <a:spcPts val="901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800080"/>
                </a:solidFill>
                <a:latin typeface="Cordia New"/>
              </a:rPr>
              <a:t>Officially established on March 26, 1917 by King Vajiravudh (Rama VI) and named after his father King Chulalongkorn (Rama V).</a:t>
            </a:r>
            <a:endParaRPr b="1" lang="en-US" sz="36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4d4d4d"/>
                </a:solidFill>
                <a:latin typeface="Cordia New"/>
              </a:rPr>
              <a:t>International Outlook</a:t>
            </a: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-228600" algn="ctr">
              <a:lnSpc>
                <a:spcPct val="100000"/>
              </a:lnSpc>
              <a:spcBef>
                <a:spcPts val="649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800080"/>
                </a:solidFill>
                <a:latin typeface="Cordia New"/>
              </a:rPr>
              <a:t>Chulalongkorn University is Thailand’s top ranked university and 166 in the THE-QS World University Ranking 2008.</a:t>
            </a:r>
            <a:endParaRPr b="1" lang="en-US" sz="2600" spc="-1" strike="noStrike">
              <a:solidFill>
                <a:srgbClr val="800080"/>
              </a:solidFill>
              <a:latin typeface="Comic Sans MS"/>
            </a:endParaRPr>
          </a:p>
          <a:p>
            <a:pPr lvl="1" marL="594360" indent="-228600" algn="ctr">
              <a:lnSpc>
                <a:spcPct val="100000"/>
              </a:lnSpc>
              <a:spcBef>
                <a:spcPts val="649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800080"/>
                </a:solidFill>
                <a:latin typeface="Cordia New"/>
              </a:rPr>
              <a:t>Chulalongkorn University is cooperating with a large number of universities worldwide.</a:t>
            </a:r>
            <a:endParaRPr b="1" lang="en-US" sz="2600" spc="-1" strike="noStrike">
              <a:solidFill>
                <a:srgbClr val="800080"/>
              </a:solidFill>
              <a:latin typeface="Comic Sans MS"/>
            </a:endParaRPr>
          </a:p>
          <a:p>
            <a:pPr lvl="1" marL="594360" indent="-228600" algn="ctr">
              <a:lnSpc>
                <a:spcPct val="100000"/>
              </a:lnSpc>
              <a:spcBef>
                <a:spcPts val="649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800080"/>
                </a:solidFill>
                <a:latin typeface="Cordia New"/>
              </a:rPr>
              <a:t>Activities under the agreements cover research collaboration, information sharing, and faculty and student exchange. </a:t>
            </a:r>
            <a:endParaRPr b="1" lang="en-US" sz="2600" spc="-1" strike="noStrike">
              <a:solidFill>
                <a:srgbClr val="800080"/>
              </a:solidFill>
              <a:latin typeface="Comic Sans MS"/>
            </a:endParaRPr>
          </a:p>
          <a:p>
            <a:pPr lvl="1" marL="594360" indent="-228600" algn="ctr">
              <a:lnSpc>
                <a:spcPct val="100000"/>
              </a:lnSpc>
              <a:spcBef>
                <a:spcPts val="649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800080"/>
                </a:solidFill>
                <a:latin typeface="Cordia New"/>
              </a:rPr>
              <a:t>The university is a member of higher educational institutions networks such as the International Association of Universities (IAU), the Association of Pacific Rim Universities (APRU), and ASEAN University Network (AUN).</a:t>
            </a:r>
            <a:endParaRPr b="1" lang="en-US" sz="26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4d4d4d"/>
                </a:solidFill>
                <a:latin typeface="Cordia New"/>
              </a:rPr>
              <a:t>CU Facts &amp; Figures </a:t>
            </a:r>
            <a:r>
              <a:rPr b="1" lang="en-US" sz="4400" spc="-1" strike="noStrike">
                <a:solidFill>
                  <a:srgbClr val="4d4d4d"/>
                </a:solidFill>
                <a:latin typeface="Cordia New"/>
              </a:rPr>
              <a:t>: </a:t>
            </a:r>
            <a:r>
              <a:rPr b="1" i="1" lang="en-US" sz="4400" spc="-1" strike="noStrike">
                <a:solidFill>
                  <a:srgbClr val="4d4d4d"/>
                </a:solidFill>
                <a:latin typeface="Cordia New"/>
              </a:rPr>
              <a:t>Data in 2008</a:t>
            </a: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-21996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800080"/>
                </a:solidFill>
                <a:latin typeface="Cordia New"/>
              </a:rPr>
              <a:t>Chualongkorn Unviersity consists of 18 faculties, three schools, three colleges and six institutes.</a:t>
            </a:r>
            <a:endParaRPr b="1" lang="en-US" sz="3000" spc="-1" strike="noStrike">
              <a:solidFill>
                <a:srgbClr val="800080"/>
              </a:solidFill>
              <a:latin typeface="Comic Sans MS"/>
            </a:endParaRPr>
          </a:p>
          <a:p>
            <a:pPr lvl="1" marL="572040" indent="-21996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800080"/>
                </a:solidFill>
                <a:latin typeface="Cordia New"/>
              </a:rPr>
              <a:t>The university has a total of 32,511 students. The undergraduate student body numbers 20,419.</a:t>
            </a:r>
            <a:endParaRPr b="1" lang="en-US" sz="3000" spc="-1" strike="noStrike">
              <a:solidFill>
                <a:srgbClr val="800080"/>
              </a:solidFill>
              <a:latin typeface="Comic Sans MS"/>
            </a:endParaRPr>
          </a:p>
          <a:p>
            <a:pPr lvl="1" marL="572040" indent="-21996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800080"/>
                </a:solidFill>
                <a:latin typeface="Cordia New"/>
              </a:rPr>
              <a:t>Currently, there are 9,740 students studying for their Master degree and 1,737 studying for their Doctorate.</a:t>
            </a:r>
            <a:endParaRPr b="1" lang="en-US" sz="3000" spc="-1" strike="noStrike">
              <a:solidFill>
                <a:srgbClr val="800080"/>
              </a:solidFill>
              <a:latin typeface="Comic Sans MS"/>
            </a:endParaRPr>
          </a:p>
          <a:p>
            <a:pPr lvl="1" marL="572040" indent="-219960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800080"/>
                </a:solidFill>
                <a:latin typeface="Cordia New"/>
              </a:rPr>
              <a:t>Faculty and staff, including government officials and university personnel is numbering at 7,851.</a:t>
            </a:r>
            <a:endParaRPr b="1" lang="en-US" sz="30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4d4d4d"/>
                </a:solidFill>
                <a:latin typeface="Cordia New"/>
              </a:rPr>
              <a:t>Location</a:t>
            </a: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 algn="ctr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800080"/>
                </a:solidFill>
                <a:latin typeface="Cordia New"/>
              </a:rPr>
              <a:t>Chulalongkorn University’s campus is located in the heart of downtown Bangkok, the capital city of Thailand. </a:t>
            </a:r>
            <a:endParaRPr b="1" lang="en-US" sz="3000" spc="-1" strike="noStrike">
              <a:solidFill>
                <a:srgbClr val="800080"/>
              </a:solidFill>
              <a:latin typeface="Comic Sans MS"/>
            </a:endParaRPr>
          </a:p>
          <a:p>
            <a:pPr lvl="1" marL="579240" indent="-222840" algn="ctr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800080"/>
                </a:solidFill>
                <a:latin typeface="Cordia New"/>
              </a:rPr>
              <a:t>On the campus, one can find himself surrounded by very green and beautiful landscape and serene academic environment as well as high-quality facilities to enhance the ability for learning in the age of globalization. </a:t>
            </a:r>
            <a:endParaRPr b="1" lang="en-US" sz="3000" spc="-1" strike="noStrike">
              <a:solidFill>
                <a:srgbClr val="800080"/>
              </a:solidFill>
              <a:latin typeface="Comic Sans MS"/>
            </a:endParaRPr>
          </a:p>
          <a:p>
            <a:pPr lvl="1" marL="579240" indent="-222840" algn="ctr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800080"/>
                </a:solidFill>
                <a:latin typeface="Cordia New"/>
              </a:rPr>
              <a:t>In the vicinity, one is provided with complete conveniences---housing, transportation and shopping facilities.</a:t>
            </a:r>
            <a:endParaRPr b="1" lang="en-US" sz="30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4d4d4d"/>
                </a:solidFill>
                <a:latin typeface="Cordia New"/>
              </a:rPr>
              <a:t>Contact Us</a:t>
            </a:r>
            <a:endParaRPr b="1" lang="en-US" sz="44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80"/>
                </a:solidFill>
                <a:latin typeface="Cordia New"/>
              </a:rPr>
              <a:t>254 Phayathai Road, Pathumwan, </a:t>
            </a:r>
            <a:endParaRPr b="1" lang="en-US" sz="4000" spc="-1" strike="noStrike">
              <a:solidFill>
                <a:srgbClr val="80008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80"/>
                </a:solidFill>
                <a:latin typeface="Cordia New"/>
              </a:rPr>
              <a:t>Bangkok Thailand. 10330</a:t>
            </a:r>
            <a:endParaRPr b="1" lang="en-US" sz="4000" spc="-1" strike="noStrike">
              <a:solidFill>
                <a:srgbClr val="80008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9999"/>
                </a:solidFill>
                <a:uFillTx/>
                <a:latin typeface="Cordia New"/>
                <a:hlinkClick r:id="rId2"/>
              </a:rPr>
              <a:t>www.chula.ac.th</a:t>
            </a:r>
            <a:endParaRPr b="1" lang="en-US" sz="4000" spc="-1" strike="noStrike">
              <a:solidFill>
                <a:srgbClr val="80008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0:58:58Z</dcterms:created>
  <dc:creator>iLLuSioN</dc:creator>
  <dc:description/>
  <dc:language>en-US</dc:language>
  <cp:lastModifiedBy>CasperX</cp:lastModifiedBy>
  <dcterms:modified xsi:type="dcterms:W3CDTF">2009-03-23T10:13:30Z</dcterms:modified>
  <cp:revision>6</cp:revision>
  <dc:subject/>
  <dc:title>ภาพนิ่ง 1</dc:title>
</cp:coreProperties>
</file>