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8B-A724-477D-A0AE-92744973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329-B642-4135-94D5-3892777B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566-620A-4A59-AE59-2899B3D5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FFB-FA81-44D8-ADDE-A2E7FFD0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6A5-FD32-401D-93D5-E6F4B084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F9F-7CD2-424E-AC0B-D55DB138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F7A-B3FF-4EB4-B3A8-D7DE436B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314-0DED-4B09-A5C7-8827C012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6520" y="274320"/>
            <a:ext cx="7913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64F-3496-4E4A-B26A-4BCE50E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3AC-40C0-4F18-BEF3-2EFE0F9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FF8-EF0C-4D03-A059-E3EAF94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41D-0B71-47BD-9B9F-831DD04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FFB-4D73-4E34-9649-955BE008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kn05_02c"/>
          <p:cNvPicPr/>
          <p:nvPr/>
        </p:nvPicPr>
        <p:blipFill>
          <a:blip r:embed="rId2"/>
          <a:stretch/>
        </p:blipFill>
        <p:spPr>
          <a:xfrm rot="20525400">
            <a:off x="631440" y="907920"/>
            <a:ext cx="4608360" cy="3052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Parodnarumit2"/>
          <p:cNvPicPr/>
          <p:nvPr/>
        </p:nvPicPr>
        <p:blipFill>
          <a:blip r:embed="rId3"/>
          <a:srcRect l="49962" t="0" r="0" b="0"/>
          <a:stretch/>
        </p:blipFill>
        <p:spPr>
          <a:xfrm rot="516600">
            <a:off x="4521240" y="3860280"/>
            <a:ext cx="3749760" cy="2616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arodnarumit2"/>
          <p:cNvPicPr/>
          <p:nvPr/>
        </p:nvPicPr>
        <p:blipFill>
          <a:blip r:embed="rId4"/>
          <a:srcRect l="0" t="0" r="50005" b="0"/>
          <a:stretch/>
        </p:blipFill>
        <p:spPr>
          <a:xfrm rot="220200">
            <a:off x="631440" y="4005000"/>
            <a:ext cx="3746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0071220-Chula-049"/>
          <p:cNvPicPr/>
          <p:nvPr/>
        </p:nvPicPr>
        <p:blipFill>
          <a:blip r:embed="rId5"/>
          <a:stretch/>
        </p:blipFill>
        <p:spPr>
          <a:xfrm rot="1874400">
            <a:off x="4088880" y="1125000"/>
            <a:ext cx="4687920" cy="351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20071220-Chula-006"/>
          <p:cNvPicPr/>
          <p:nvPr/>
        </p:nvPicPr>
        <p:blipFill>
          <a:blip r:embed="rId6"/>
          <a:stretch/>
        </p:blipFill>
        <p:spPr>
          <a:xfrm rot="21089400">
            <a:off x="1777680" y="1047600"/>
            <a:ext cx="6350040" cy="476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203521019"/>
          <p:cNvPicPr/>
          <p:nvPr/>
        </p:nvPicPr>
        <p:blipFill>
          <a:blip r:embed="rId7"/>
          <a:stretch/>
        </p:blipFill>
        <p:spPr>
          <a:xfrm>
            <a:off x="631800" y="404640"/>
            <a:ext cx="3849840" cy="512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0071220-Chula-029"/>
          <p:cNvPicPr/>
          <p:nvPr/>
        </p:nvPicPr>
        <p:blipFill>
          <a:blip r:embed="rId8"/>
          <a:stretch/>
        </p:blipFill>
        <p:spPr>
          <a:xfrm>
            <a:off x="1778040" y="1047600"/>
            <a:ext cx="6350040" cy="476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0071220-Chula-036"/>
          <p:cNvPicPr/>
          <p:nvPr/>
        </p:nvPicPr>
        <p:blipFill>
          <a:blip r:embed="rId9"/>
          <a:stretch/>
        </p:blipFill>
        <p:spPr>
          <a:xfrm rot="1027800">
            <a:off x="1778040" y="1047600"/>
            <a:ext cx="6350040" cy="476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0071220-Chula-008"/>
          <p:cNvPicPr/>
          <p:nvPr/>
        </p:nvPicPr>
        <p:blipFill>
          <a:blip r:embed="rId10"/>
          <a:stretch/>
        </p:blipFill>
        <p:spPr>
          <a:xfrm rot="21225600">
            <a:off x="631440" y="1557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20071220-Chula-009"/>
          <p:cNvPicPr/>
          <p:nvPr/>
        </p:nvPicPr>
        <p:blipFill>
          <a:blip r:embed="rId11"/>
          <a:stretch/>
        </p:blipFill>
        <p:spPr>
          <a:xfrm rot="619200">
            <a:off x="2936880" y="620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0071220-Chula-032"/>
          <p:cNvPicPr/>
          <p:nvPr/>
        </p:nvPicPr>
        <p:blipFill>
          <a:blip r:embed="rId12"/>
          <a:stretch/>
        </p:blipFill>
        <p:spPr>
          <a:xfrm>
            <a:off x="415800" y="0"/>
            <a:ext cx="9129960" cy="684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พื้นหลัง4"/>
          <p:cNvPicPr/>
          <p:nvPr/>
        </p:nvPicPr>
        <p:blipFill>
          <a:blip r:embed="rId1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International 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hulalongkorn University is Thailand’s top ranked university and 166 in the THE-QS World University Ranking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hulalongkorn University is cooperating with a large number of universities world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Activities under the agreements cover research collaboration, information sharing, and faculty and student ex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CU Facts &amp; Fig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Data in 20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hualongkorn Unviersity consists of 18 faculties, three schools, three colleges and six instit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The university has a total of 32,511 students. The undergraduate student body numbers 20,4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urrently, there are 9,740 students studying for their Master degree and 1,737 studying for their Docto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Faculty and staff, including government officials and university personnel is numbering at 7,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586800" indent="-2257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hulalongkorn University’s campus is located in the heart of downtown Bangkok, the capital city of Thai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In the vicinity, one is provided with complete conveniences---housing, transportation and shopping fac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54 Phayathai Road, Pathumwa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Bangkok Thailand. 103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 u="sng">
                <a:solidFill>
                  <a:srgbClr val="009999"/>
                </a:solidFill>
                <a:uFillTx/>
                <a:latin typeface="Browallia New"/>
                <a:ea typeface="Browallia New"/>
                <a:hlinkClick r:id="rId2"/>
              </a:rPr>
              <a:t>www.chula.ac.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42840" y="0"/>
            <a:ext cx="9947160" cy="1353960"/>
            <a:chOff x="42840" y="0"/>
            <a:chExt cx="9947160" cy="1353960"/>
          </a:xfrm>
        </p:grpSpPr>
        <p:sp>
          <p:nvSpPr>
            <p:cNvPr id="108" name="Rectangle 3"/>
            <p:cNvSpPr/>
            <p:nvPr/>
          </p:nvSpPr>
          <p:spPr>
            <a:xfrm>
              <a:off x="1065240" y="155520"/>
              <a:ext cx="8748720" cy="9493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WordArt 4"/>
            <p:cNvSpPr txBox="1"/>
            <p:nvPr/>
          </p:nvSpPr>
          <p:spPr>
            <a:xfrm>
              <a:off x="1136520" y="438120"/>
              <a:ext cx="44643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CHULALONGKORN U.</a:t>
              </a:r>
              <a:endPara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110" name="WordArt 5"/>
            <p:cNvSpPr txBox="1"/>
            <p:nvPr/>
          </p:nvSpPr>
          <p:spPr>
            <a:xfrm>
              <a:off x="5673600" y="465120"/>
              <a:ext cx="4032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latin typeface="Browallia New"/>
                </a:rPr>
                <a:t>(Pillar of the Kingdom)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Browallia New"/>
                <a:ea typeface="Browallia New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004760" y="1158840"/>
              <a:ext cx="8985240" cy="7164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Logo%20Chula"/>
            <p:cNvPicPr/>
            <p:nvPr/>
          </p:nvPicPr>
          <p:blipFill>
            <a:blip r:embed="rId2"/>
            <a:stretch/>
          </p:blipFill>
          <p:spPr>
            <a:xfrm>
              <a:off x="42840" y="0"/>
              <a:ext cx="898560" cy="13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8"/>
          <p:cNvGrpSpPr/>
          <p:nvPr/>
        </p:nvGrpSpPr>
        <p:grpSpPr>
          <a:xfrm>
            <a:off x="46080" y="1628640"/>
            <a:ext cx="9947160" cy="1353960"/>
            <a:chOff x="46080" y="1628640"/>
            <a:chExt cx="9947160" cy="1353960"/>
          </a:xfrm>
        </p:grpSpPr>
        <p:pic>
          <p:nvPicPr>
            <p:cNvPr id="114" name="Picture 9" descr="Logo%20Chula"/>
            <p:cNvPicPr/>
            <p:nvPr/>
          </p:nvPicPr>
          <p:blipFill>
            <a:blip r:embed="rId3"/>
            <a:stretch/>
          </p:blipFill>
          <p:spPr>
            <a:xfrm>
              <a:off x="46080" y="1628640"/>
              <a:ext cx="8985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0"/>
            <p:cNvSpPr/>
            <p:nvPr/>
          </p:nvSpPr>
          <p:spPr>
            <a:xfrm>
              <a:off x="1068480" y="1784160"/>
              <a:ext cx="8748720" cy="949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11"/>
            <p:cNvSpPr txBox="1"/>
            <p:nvPr/>
          </p:nvSpPr>
          <p:spPr>
            <a:xfrm>
              <a:off x="1139760" y="2066760"/>
              <a:ext cx="446436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33cc"/>
                  </a:solidFill>
                  <a:effectLst>
                    <a:outerShdw dist="17819" dir="2700000" blurRad="0" rotWithShape="0">
                      <a:srgbClr val="991f7a"/>
                    </a:outerShdw>
                  </a:effectLst>
                  <a:latin typeface="Browallia New"/>
                </a:rPr>
                <a:t>CHULALONGKORN U.</a:t>
              </a:r>
              <a:endParaRPr b="1" lang="en-US" sz="20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1f7a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117" name="WordArt 12"/>
            <p:cNvSpPr txBox="1"/>
            <p:nvPr/>
          </p:nvSpPr>
          <p:spPr>
            <a:xfrm>
              <a:off x="5676840" y="2093760"/>
              <a:ext cx="4032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latin typeface="Browallia New"/>
                </a:rPr>
                <a:t>(Pillar of the Kingdom)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Browallia New"/>
                <a:ea typeface="Browallia New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1008000" y="2787480"/>
              <a:ext cx="8985240" cy="7164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82440" y="3429000"/>
            <a:ext cx="9882360" cy="1368360"/>
            <a:chOff x="82440" y="3429000"/>
            <a:chExt cx="9882360" cy="1368360"/>
          </a:xfrm>
        </p:grpSpPr>
        <p:sp>
          <p:nvSpPr>
            <p:cNvPr id="120" name="Rectangle 15"/>
            <p:cNvSpPr/>
            <p:nvPr/>
          </p:nvSpPr>
          <p:spPr>
            <a:xfrm>
              <a:off x="1065240" y="3539880"/>
              <a:ext cx="8748720" cy="94896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WordArt 16"/>
            <p:cNvSpPr txBox="1"/>
            <p:nvPr/>
          </p:nvSpPr>
          <p:spPr>
            <a:xfrm>
              <a:off x="1136520" y="3822480"/>
              <a:ext cx="4464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33cc"/>
                  </a:solidFill>
                  <a:effectLst>
                    <a:outerShdw dist="17819" dir="2700000" blurRad="0" rotWithShape="0">
                      <a:srgbClr val="991f7a"/>
                    </a:outerShdw>
                  </a:effectLst>
                  <a:latin typeface="Browallia New"/>
                </a:rPr>
                <a:t>CHULALONGKORN U.</a:t>
              </a:r>
              <a:endParaRPr b="1" lang="en-US" sz="20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1f7a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122" name="WordArt 17"/>
            <p:cNvSpPr txBox="1"/>
            <p:nvPr/>
          </p:nvSpPr>
          <p:spPr>
            <a:xfrm>
              <a:off x="5673600" y="3849480"/>
              <a:ext cx="4032360" cy="36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latin typeface="Browallia New"/>
                </a:rPr>
                <a:t>(Pillar of the Kingdom)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Browallia New"/>
                <a:ea typeface="Browallia New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979560" y="4581360"/>
              <a:ext cx="8985240" cy="709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9" descr="Logo%20Chula"/>
            <p:cNvPicPr/>
            <p:nvPr/>
          </p:nvPicPr>
          <p:blipFill>
            <a:blip r:embed="rId4"/>
            <a:stretch/>
          </p:blipFill>
          <p:spPr>
            <a:xfrm>
              <a:off x="82440" y="3429000"/>
              <a:ext cx="90828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20"/>
          <p:cNvGrpSpPr/>
          <p:nvPr/>
        </p:nvGrpSpPr>
        <p:grpSpPr>
          <a:xfrm>
            <a:off x="82440" y="5229360"/>
            <a:ext cx="9882360" cy="1368360"/>
            <a:chOff x="82440" y="5229360"/>
            <a:chExt cx="9882360" cy="1368360"/>
          </a:xfrm>
        </p:grpSpPr>
        <p:sp>
          <p:nvSpPr>
            <p:cNvPr id="126" name="Rectangle 21"/>
            <p:cNvSpPr/>
            <p:nvPr/>
          </p:nvSpPr>
          <p:spPr>
            <a:xfrm>
              <a:off x="1065240" y="5340240"/>
              <a:ext cx="8748720" cy="9489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WordArt 22"/>
            <p:cNvSpPr txBox="1"/>
            <p:nvPr/>
          </p:nvSpPr>
          <p:spPr>
            <a:xfrm>
              <a:off x="1136520" y="5622840"/>
              <a:ext cx="446436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Browallia New"/>
                </a:rPr>
                <a:t>CHULALONGKORN U.</a:t>
              </a:r>
              <a:endParaRPr b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wallia New"/>
                <a:ea typeface="Browallia New"/>
              </a:endParaRPr>
            </a:p>
          </p:txBody>
        </p:sp>
        <p:sp>
          <p:nvSpPr>
            <p:cNvPr id="128" name="WordArt 23"/>
            <p:cNvSpPr txBox="1"/>
            <p:nvPr/>
          </p:nvSpPr>
          <p:spPr>
            <a:xfrm>
              <a:off x="5673600" y="5649840"/>
              <a:ext cx="4032360" cy="36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0000ff"/>
                  </a:solidFill>
                  <a:latin typeface="Browallia New"/>
                </a:rPr>
                <a:t>(Pillar of the Kingdom)</a:t>
              </a:r>
              <a:endPara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Browallia New"/>
                <a:ea typeface="Browallia New"/>
              </a:endParaRPr>
            </a:p>
          </p:txBody>
        </p:sp>
        <p:pic>
          <p:nvPicPr>
            <p:cNvPr id="129" name="Picture 24" descr="Logo%20Chula"/>
            <p:cNvPicPr/>
            <p:nvPr/>
          </p:nvPicPr>
          <p:blipFill>
            <a:blip r:embed="rId5"/>
            <a:stretch/>
          </p:blipFill>
          <p:spPr>
            <a:xfrm>
              <a:off x="82440" y="5229360"/>
              <a:ext cx="9082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5"/>
            <p:cNvSpPr/>
            <p:nvPr/>
          </p:nvSpPr>
          <p:spPr>
            <a:xfrm>
              <a:off x="979560" y="6381720"/>
              <a:ext cx="8985240" cy="709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55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62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69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76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83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84520" y="189000"/>
            <a:ext cx="691344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SL Script"/>
                <a:ea typeface="PSL Script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7680" y="2305080"/>
            <a:ext cx="500040" cy="3376440"/>
            <a:chOff x="517680" y="2305080"/>
            <a:chExt cx="500040" cy="3376440"/>
          </a:xfrm>
        </p:grpSpPr>
        <p:pic>
          <p:nvPicPr>
            <p:cNvPr id="90" name="Group 10" descr=""/>
            <p:cNvPicPr/>
            <p:nvPr/>
          </p:nvPicPr>
          <p:blipFill>
            <a:blip r:embed="rId2"/>
            <a:stretch/>
          </p:blipFill>
          <p:spPr>
            <a:xfrm>
              <a:off x="517680" y="230508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16" descr=""/>
            <p:cNvPicPr/>
            <p:nvPr/>
          </p:nvPicPr>
          <p:blipFill>
            <a:blip r:embed="rId3"/>
            <a:stretch/>
          </p:blipFill>
          <p:spPr>
            <a:xfrm>
              <a:off x="517680" y="3024360"/>
              <a:ext cx="5000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Group 22" descr=""/>
            <p:cNvPicPr/>
            <p:nvPr/>
          </p:nvPicPr>
          <p:blipFill>
            <a:blip r:embed="rId4"/>
            <a:stretch/>
          </p:blipFill>
          <p:spPr>
            <a:xfrm>
              <a:off x="517680" y="3749760"/>
              <a:ext cx="500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Group 28" descr=""/>
            <p:cNvPicPr/>
            <p:nvPr/>
          </p:nvPicPr>
          <p:blipFill>
            <a:blip r:embed="rId5"/>
            <a:stretch/>
          </p:blipFill>
          <p:spPr>
            <a:xfrm>
              <a:off x="517680" y="4468680"/>
              <a:ext cx="50004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Group 34" descr=""/>
            <p:cNvPicPr/>
            <p:nvPr/>
          </p:nvPicPr>
          <p:blipFill>
            <a:blip r:embed="rId6"/>
            <a:stretch/>
          </p:blipFill>
          <p:spPr>
            <a:xfrm>
              <a:off x="517680" y="5187960"/>
              <a:ext cx="50004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3800" y="274320"/>
            <a:ext cx="7986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Chulalongko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Chulalongkorn University is Thailand’s first institution of higher education founded nearly a century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7913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Chulalongkorn University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Thailand’s oldest and one of the country’s most prestigious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wall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Officially established on March 26, 1917 by King Vajiravudh (Rama VI) and named after his father King Chulalongkorn    (Rama 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0:54:25Z</dcterms:created>
  <dc:creator>NONG</dc:creator>
  <dc:description/>
  <dc:language>en-US</dc:language>
  <cp:lastModifiedBy>CasperX</cp:lastModifiedBy>
  <dcterms:modified xsi:type="dcterms:W3CDTF">2009-03-23T10:18:19Z</dcterms:modified>
  <cp:revision>15</cp:revision>
  <dc:subject/>
  <dc:title>ภาพนิ่ง 1</dc:title>
</cp:coreProperties>
</file>