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4D46-18C5-4754-94B6-3BE3FA7FD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33F3-05BF-4130-8E8F-DD05C416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FE7B-E373-46EC-88A3-2664F93D1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0482-F9C0-4FEA-8F6D-4450FE250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3ABC-B830-40C9-A2E9-6E12C7A4D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C9A3-FE1D-4FC2-AC03-0559CE39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C46C-3154-4C69-B3DC-9E7D3648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D7090-D596-42D1-8377-1AEE93C0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B1DF-86DC-4D3F-BEB2-39C9AF65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5843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671EE-0B5F-4460-A25F-D886D020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1D03-1256-4471-BD0D-8C44FFEA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1DBF-FF1A-4C73-AA16-B007E5AE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DC7B-7F30-4C00-809D-2ECE24FE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5E21-C963-49A7-AE34-4304F8E6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E2D1-B1A4-4929-901E-5999ECD4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671FA-9FE1-4E07-B153-5F0C64757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6B48-7D4D-442A-8885-FCC139C25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46B7-EB80-490D-8178-F81BEADE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8229-FD6B-47AE-84BD-4F81A218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DC43-5C53-4E6A-9D3C-238F03ED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5843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4C1D-023C-4645-A42B-26F1D72E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794D-94F9-4A6A-8086-DB6FE910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888B-758E-4960-837E-C42AAF23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3FCB-7A2B-4886-B55E-5EA49E1D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9B40-6BD2-4A3E-8CE8-3104C74D3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3573360"/>
            <a:ext cx="7200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1319-4782-4CE0-9B13-E9726CCD7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5f5f5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5f5f5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5f5f5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5f5f5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5f5f5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5f5f5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hula.ac.th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71640" y="3573360"/>
            <a:ext cx="7200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94136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660033"/>
                </a:solidFill>
                <a:latin typeface="Cordia New"/>
              </a:rPr>
              <a:t>Chulalongkorn University</a:t>
            </a:r>
            <a:endParaRPr b="1" lang="en-US" sz="60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lvl="1" marL="639000" indent="-245520" algn="ctr">
              <a:lnSpc>
                <a:spcPct val="100000"/>
              </a:lnSpc>
              <a:spcBef>
                <a:spcPts val="901"/>
              </a:spcBef>
              <a:buClr>
                <a:srgbClr val="5f5f5f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5f5f5f"/>
                </a:solidFill>
                <a:latin typeface="Cordia New"/>
              </a:rPr>
              <a:t>Chulalongkorn University is Thailand’s first institution of higher education founded nearly a century ago.</a:t>
            </a:r>
            <a:endParaRPr b="1" lang="en-US" sz="3600" spc="-1" strike="noStrike">
              <a:solidFill>
                <a:srgbClr val="5f5f5f"/>
              </a:solidFill>
              <a:latin typeface="Comic Sans MS"/>
            </a:endParaRPr>
          </a:p>
          <a:p>
            <a:pPr lvl="1" marL="639000" indent="-245520" algn="ctr">
              <a:lnSpc>
                <a:spcPct val="100000"/>
              </a:lnSpc>
              <a:spcBef>
                <a:spcPts val="901"/>
              </a:spcBef>
              <a:buClr>
                <a:srgbClr val="5f5f5f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5f5f5f"/>
                </a:solidFill>
                <a:latin typeface="Cordia New"/>
              </a:rPr>
              <a:t>As a national intellectual center, the university produces the finest quality graduates with a high level of knowledge and skills in the arts and sciences that they can use to contribute to society.</a:t>
            </a:r>
            <a:endParaRPr b="1" lang="en-US" sz="3600" spc="-1" strike="noStrike">
              <a:solidFill>
                <a:srgbClr val="5f5f5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660033"/>
                </a:solidFill>
                <a:latin typeface="Cordia New"/>
              </a:rPr>
              <a:t>Chulalongkorn University is </a:t>
            </a:r>
            <a:endParaRPr b="1" lang="en-US" sz="5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1" marL="660960" indent="-254160" algn="ctr">
              <a:lnSpc>
                <a:spcPct val="100000"/>
              </a:lnSpc>
              <a:spcBef>
                <a:spcPts val="1001"/>
              </a:spcBef>
              <a:buClr>
                <a:srgbClr val="5f5f5f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5f5f5f"/>
                </a:solidFill>
                <a:latin typeface="Cordia New"/>
              </a:rPr>
              <a:t>Thailand’s oldest and one of the country’s most prestigious universities. </a:t>
            </a:r>
            <a:endParaRPr b="1" lang="en-US" sz="4000" spc="-1" strike="noStrike">
              <a:solidFill>
                <a:srgbClr val="5f5f5f"/>
              </a:solidFill>
              <a:latin typeface="Comic Sans MS"/>
            </a:endParaRPr>
          </a:p>
          <a:p>
            <a:pPr lvl="1" marL="660960" indent="-254160" algn="ctr">
              <a:lnSpc>
                <a:spcPct val="100000"/>
              </a:lnSpc>
              <a:spcBef>
                <a:spcPts val="1001"/>
              </a:spcBef>
              <a:buClr>
                <a:srgbClr val="5f5f5f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5f5f5f"/>
                </a:solidFill>
                <a:latin typeface="Cordia New"/>
              </a:rPr>
              <a:t>Officially established on March 26, 1917 by King Vajiravudh (Rama VI) and named after his father King Chulalongkorn (Rama V).</a:t>
            </a:r>
            <a:endParaRPr b="1" lang="en-US" sz="4000" spc="-1" strike="noStrike">
              <a:solidFill>
                <a:srgbClr val="5f5f5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660033"/>
                </a:solidFill>
                <a:latin typeface="Cordia New"/>
              </a:rPr>
              <a:t>International Outlook</a:t>
            </a:r>
            <a:endParaRPr b="1" lang="en-US" sz="6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lvl="1" marL="564480" indent="-217080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5f5f5f"/>
                </a:solidFill>
                <a:latin typeface="Cordia New"/>
              </a:rPr>
              <a:t>Chulalongkorn University is Thailand’s top ranked university and 166 in the  THE-QS World University Ranking 2008.</a:t>
            </a:r>
            <a:endParaRPr b="1" lang="en-US" sz="2800" spc="-1" strike="noStrike">
              <a:solidFill>
                <a:srgbClr val="5f5f5f"/>
              </a:solidFill>
              <a:latin typeface="Comic Sans MS"/>
            </a:endParaRPr>
          </a:p>
          <a:p>
            <a:pPr lvl="1" marL="564480" indent="-217080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5f5f5f"/>
                </a:solidFill>
                <a:latin typeface="Cordia New"/>
              </a:rPr>
              <a:t>Chulalongkorn University is cooperating with a large number of universities worldwide.</a:t>
            </a:r>
            <a:endParaRPr b="1" lang="en-US" sz="2800" spc="-1" strike="noStrike">
              <a:solidFill>
                <a:srgbClr val="5f5f5f"/>
              </a:solidFill>
              <a:latin typeface="Comic Sans MS"/>
            </a:endParaRPr>
          </a:p>
          <a:p>
            <a:pPr lvl="1" marL="564480" indent="-217080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5f5f5f"/>
                </a:solidFill>
                <a:latin typeface="Cordia New"/>
              </a:rPr>
              <a:t>Activities under the agreements cover research collaboration, information sharing, and faculty and student exchange. </a:t>
            </a:r>
            <a:endParaRPr b="1" lang="en-US" sz="2800" spc="-1" strike="noStrike">
              <a:solidFill>
                <a:srgbClr val="5f5f5f"/>
              </a:solidFill>
              <a:latin typeface="Comic Sans MS"/>
            </a:endParaRPr>
          </a:p>
          <a:p>
            <a:pPr lvl="1" marL="564480" indent="-217080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5f5f5f"/>
                </a:solidFill>
                <a:latin typeface="Cordia New"/>
              </a:rPr>
              <a:t>The university is a member of higher educational institutions networks such as the International Association of Universities (IAU), the Association of Pacific Rim Universities (APRU), and ASEAN University Network (AUN).</a:t>
            </a:r>
            <a:endParaRPr b="1" lang="en-US" sz="2800" spc="-1" strike="noStrike">
              <a:solidFill>
                <a:srgbClr val="5f5f5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660033"/>
                </a:solidFill>
                <a:latin typeface="Cordia New"/>
              </a:rPr>
              <a:t>CU Facts &amp; Figures</a:t>
            </a:r>
            <a:br>
              <a:rPr sz="4000"/>
            </a:br>
            <a:r>
              <a:rPr b="1" lang="en-US" sz="4000" spc="-1" strike="noStrike">
                <a:solidFill>
                  <a:srgbClr val="660033"/>
                </a:solidFill>
                <a:latin typeface="Cordia New"/>
              </a:rPr>
              <a:t>Data in 2008</a:t>
            </a:r>
            <a:endParaRPr b="1" lang="en-US" sz="40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lvl="1" marL="564480" indent="-217080" algn="ctr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5f5f5f"/>
                </a:solidFill>
                <a:latin typeface="Cordia New"/>
              </a:rPr>
              <a:t>Chualongkorn Unviersity consists of 18 faculties, three schools, three colleges and six institutes.</a:t>
            </a: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  <a:p>
            <a:pPr lvl="1" marL="564480" indent="-217080" algn="ctr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5f5f5f"/>
                </a:solidFill>
                <a:latin typeface="Cordia New"/>
              </a:rPr>
              <a:t>The university has a total of 32,511 students.                The undergraduate student body numbers 20,419.</a:t>
            </a: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  <a:p>
            <a:pPr lvl="1" marL="564480" indent="-217080" algn="ctr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5f5f5f"/>
                </a:solidFill>
                <a:latin typeface="Cordia New"/>
              </a:rPr>
              <a:t>Currently, there are 9,740 students studying for their Master degree and 1,737 studying for their Doctorate.</a:t>
            </a: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  <a:p>
            <a:pPr lvl="1" marL="564480" indent="-217080" algn="ctr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5f5f5f"/>
                </a:solidFill>
                <a:latin typeface="Cordia New"/>
              </a:rPr>
              <a:t>Faculty and staff, including government officials and university personnel is numbering at 7,851.</a:t>
            </a: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660033"/>
                </a:solidFill>
                <a:latin typeface="Cordia New"/>
              </a:rPr>
              <a:t>Location</a:t>
            </a:r>
            <a:endParaRPr b="1" lang="en-US" sz="6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lvl="1" marL="579240" indent="-222840" algn="ctr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5f5f5f"/>
                </a:solidFill>
                <a:latin typeface="Cordia New"/>
              </a:rPr>
              <a:t>Chulalongkorn University’s campus is located in the heart of downtown Bangkok, the capital city of Thailand. </a:t>
            </a: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  <a:p>
            <a:pPr lvl="1" marL="579240" indent="-222840" algn="ctr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5f5f5f"/>
                </a:solidFill>
                <a:latin typeface="Cordia New"/>
              </a:rPr>
              <a:t>On the campus, one can find himself surrounded by very green and beautiful landscape and serene academic environment as well as high-quality facilities to enhance the ability for learning in the age of globalization. </a:t>
            </a: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  <a:p>
            <a:pPr lvl="1" marL="579240" indent="-222840" algn="ctr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5f5f5f"/>
                </a:solidFill>
                <a:latin typeface="Cordia New"/>
              </a:rPr>
              <a:t>In the vicinity, one is provided with complete conveniences---housing, transportation and shopping facilities.</a:t>
            </a:r>
            <a:endParaRPr b="1" lang="en-US" sz="3200" spc="-1" strike="noStrike">
              <a:solidFill>
                <a:srgbClr val="5f5f5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660033"/>
                </a:solidFill>
                <a:latin typeface="Cordia New"/>
              </a:rPr>
              <a:t>Contact Us</a:t>
            </a:r>
            <a:endParaRPr b="1" lang="en-US" sz="6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5f5f5f"/>
                </a:solidFill>
                <a:latin typeface="Cordia New"/>
              </a:rPr>
              <a:t>254 Phayathai Road, Pathumwan, </a:t>
            </a:r>
            <a:endParaRPr b="1" lang="en-US" sz="2800" spc="-1" strike="noStrike">
              <a:solidFill>
                <a:srgbClr val="5f5f5f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5f5f5f"/>
                </a:solidFill>
                <a:latin typeface="Cordia New"/>
              </a:rPr>
              <a:t>Bangkok Thailand. 10330</a:t>
            </a:r>
            <a:endParaRPr b="1" lang="en-US" sz="2800" spc="-1" strike="noStrike">
              <a:solidFill>
                <a:srgbClr val="5f5f5f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cc3300"/>
                </a:solidFill>
                <a:uFillTx/>
                <a:latin typeface="Cordia New"/>
                <a:hlinkClick r:id="rId2"/>
              </a:rPr>
              <a:t>www.chula.ac.th</a:t>
            </a:r>
            <a:endParaRPr b="1" lang="en-US" sz="2800" spc="-1" strike="noStrike">
              <a:solidFill>
                <a:srgbClr val="5f5f5f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6:28:31Z</dcterms:created>
  <dc:creator>COMPAQ</dc:creator>
  <dc:description/>
  <dc:language>en-US</dc:language>
  <cp:lastModifiedBy>CasperX</cp:lastModifiedBy>
  <dcterms:modified xsi:type="dcterms:W3CDTF">2009-03-23T10:09:30Z</dcterms:modified>
  <cp:revision>6</cp:revision>
  <dc:subject/>
  <dc:title>ภาพนิ่ง 1</dc:title>
</cp:coreProperties>
</file>